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26B4-E825-4D8D-AA76-804392B44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D165-663D-4792-ADE8-C4373DC7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4E01-729A-44DB-8065-0ACE87D94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C9B3-518B-4E7E-B09E-FCD25D215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CF767-3C08-43D1-91A8-2F5D97B41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CF94-8B7C-42F1-8031-1DFDFE23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4B51-E169-451E-B52C-713BE168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CB5FC-A51D-4D5E-B135-AF93BC6A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1F2F-4D18-45BB-9CF7-F4853790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88C7-9999-4564-943A-207A8FAD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2A207-D363-46A3-9131-C59B80E4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A060-1E36-4C59-A227-21D11896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AABD9-1683-4C01-96FC-FAFDD79E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2EC0-16E5-4981-B891-C3CDEB02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081D-4551-4BFC-AF34-63B98B63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3B7D-DFFE-4B93-A817-B2D4A176C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DE35-0057-4569-8588-A5B3FB8AF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1B61-E663-4977-A755-7C27DA1D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474B-C215-445A-B0B2-9F0396C4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ED97-013D-4C7D-B2B3-9DCEAA97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77FD-8933-43F9-A683-459CE2B1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EBA3-5AAC-4BC0-B564-E1816480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9F3D-45AD-4D97-BF01-3DA735E8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088D-80A2-4D17-A8E3-117F3B6F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A4D6-DAC6-40E5-B455-B4E1BC4A0559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B2CE-385B-4431-BF8A-9780C13C45B1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" Target="slide2.xml"/><Relationship Id="rId4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9bd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Тема: «Команда повторения «Для»»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nextslide"/>
          </p:cNvPr>
          <p:cNvSpPr/>
          <p:nvPr/>
        </p:nvSpPr>
        <p:spPr>
          <a:xfrm>
            <a:off x="7620120" y="60199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90" h="21600">
                <a:moveTo>
                  <a:pt x="16138" y="3794"/>
                </a:moveTo>
                <a:lnTo>
                  <a:pt x="30151" y="10800"/>
                </a:lnTo>
                <a:lnTo>
                  <a:pt x="16138" y="17806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371600" y="533520"/>
          <a:ext cx="1400040" cy="12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533520"/>
                    <a:ext cx="140004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a79c6"/>
                </a:solidFill>
                <a:latin typeface="Garamond"/>
              </a:rPr>
              <a:t>Домашнее задание</a:t>
            </a:r>
            <a:br>
              <a:rPr sz="2800"/>
            </a:br>
            <a:r>
              <a:rPr b="0" i="1" lang="en-US" sz="2800" spc="-1" strike="noStrike">
                <a:solidFill>
                  <a:srgbClr val="6a79c6"/>
                </a:solidFill>
                <a:latin typeface="Garamond"/>
              </a:rPr>
              <a:t>Вариант 4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00"/>
              </a:spcBef>
              <a:buClr>
                <a:srgbClr val="333333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.  Составьте алгоритм построения графика функции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878440" y="2176560"/>
                <a:ext cx="20242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1447920" y="1981080"/>
            <a:ext cx="37335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Программа Парабола4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Описание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n: Целый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x,y,h: Вещественный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Конец_Описания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Сменить_Цвет(5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n:=60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x:=-8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h:=18/n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Сместиться_В(x, 5* Квадрат(x)-6  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Опустить_Перо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Повторять_Пока x&lt;=10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x:=x+h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y:=5* Квадрат(x)-6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Сместиться_В(x,y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Завершить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Конец_Программы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nextslide"/>
          </p:cNvPr>
          <p:cNvSpPr/>
          <p:nvPr/>
        </p:nvSpPr>
        <p:spPr>
          <a:xfrm>
            <a:off x="7620120" y="60199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90" h="21600">
                <a:moveTo>
                  <a:pt x="16138" y="3794"/>
                </a:moveTo>
                <a:lnTo>
                  <a:pt x="30151" y="10800"/>
                </a:lnTo>
                <a:lnTo>
                  <a:pt x="16138" y="17806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562720" y="3124080"/>
            <a:ext cx="2514600" cy="24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4120" y="3352680"/>
            <a:ext cx="1676160" cy="2374920"/>
          </a:xfrm>
          <a:custGeom>
            <a:avLst/>
            <a:gdLst/>
            <a:ahLst/>
            <a:rect l="l" t="t" r="r" b="b"/>
            <a:pathLst>
              <a:path w="1056" h="1496">
                <a:moveTo>
                  <a:pt x="0" y="48"/>
                </a:moveTo>
                <a:cubicBezTo>
                  <a:pt x="176" y="772"/>
                  <a:pt x="352" y="1496"/>
                  <a:pt x="528" y="1488"/>
                </a:cubicBezTo>
                <a:cubicBezTo>
                  <a:pt x="704" y="1480"/>
                  <a:pt x="968" y="248"/>
                  <a:pt x="1056" y="0"/>
                </a:cubicBezTo>
              </a:path>
            </a:pathLst>
          </a:custGeom>
          <a:noFill/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52880" y="4800600"/>
            <a:ext cx="259092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172200" y="3200040"/>
            <a:ext cx="0" cy="29718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Garamond"/>
              </a:rPr>
              <a:t>Домашнее задание</a:t>
            </a:r>
            <a:br>
              <a:rPr sz="2800"/>
            </a:br>
            <a:r>
              <a:rPr b="0" i="1" lang="en-US" sz="2800" spc="-1" strike="noStrike">
                <a:solidFill>
                  <a:srgbClr val="33cc33"/>
                </a:solidFill>
                <a:latin typeface="Garamond"/>
              </a:rPr>
              <a:t>Вариант 4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>
              <a:spcBef>
                <a:spcPts val="700"/>
              </a:spcBef>
              <a:buClr>
                <a:srgbClr val="333333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. Составьте алгоритм определяющий: принадлежит ли произвольно выбранная точка заштрихованному прямоугольнику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8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198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47920" y="2362320"/>
            <a:ext cx="5638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Программа Принадлежность_4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Описание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x,y: Вещественный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l,k: Логический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Конец_Описания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Ввод(x,'Введите координату х:'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Ввод(y,'Введите координату y:'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l:=(x&gt;=-1) и (x&lt;=5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k:=(y&gt;=-3) и (y&lt;=3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Если l и k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То Вывод('Принадлежит!'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Иначе  Вывод('Не принадлежит!'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Конец_Если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Конец_Программы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" name="">
            <a:hlinkClick r:id="rId2" action="ppaction://hlinksldjump"/>
          </p:cNvPr>
          <p:cNvSpPr/>
          <p:nvPr/>
        </p:nvSpPr>
        <p:spPr>
          <a:xfrm>
            <a:off x="7620120" y="541008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6" h="21600">
                <a:moveTo>
                  <a:pt x="11628" y="3837"/>
                </a:moveTo>
                <a:lnTo>
                  <a:pt x="14204" y="6448"/>
                </a:ln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lnTo>
                  <a:pt x="18591" y="10800"/>
                </a:lnTo>
                <a:lnTo>
                  <a:pt x="16937" y="10800"/>
                </a:lnTo>
                <a:lnTo>
                  <a:pt x="16937" y="17989"/>
                </a:lnTo>
                <a:lnTo>
                  <a:pt x="6318" y="17989"/>
                </a:lnTo>
                <a:lnTo>
                  <a:pt x="6318" y="10800"/>
                </a:lnTo>
                <a:lnTo>
                  <a:pt x="4665" y="10800"/>
                </a:lnTo>
                <a:close/>
              </a:path>
              <a:path fill="darkenLess" w="23256" h="21600">
                <a:moveTo>
                  <a:pt x="14204" y="6448"/>
                </a:move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close/>
              </a:path>
              <a:path fill="darkenLess" w="23256" h="21600">
                <a:moveTo>
                  <a:pt x="10705" y="14299"/>
                </a:moveTo>
                <a:lnTo>
                  <a:pt x="12550" y="14299"/>
                </a:lnTo>
                <a:lnTo>
                  <a:pt x="12550" y="17989"/>
                </a:lnTo>
                <a:lnTo>
                  <a:pt x="16937" y="17989"/>
                </a:lnTo>
                <a:lnTo>
                  <a:pt x="16937" y="10800"/>
                </a:lnTo>
                <a:lnTo>
                  <a:pt x="6318" y="10800"/>
                </a:lnTo>
                <a:lnTo>
                  <a:pt x="6318" y="17989"/>
                </a:lnTo>
                <a:lnTo>
                  <a:pt x="10705" y="17989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172200" y="3352680"/>
            <a:ext cx="1676520" cy="990720"/>
          </a:xfrm>
          <a:prstGeom prst="rect">
            <a:avLst/>
          </a:prstGeom>
          <a:solidFill>
            <a:srgbClr val="a9bda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7315200" y="2666880"/>
            <a:ext cx="0" cy="22860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91320" y="3962520"/>
            <a:ext cx="259056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91320" y="36576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-6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315200" y="29718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315200" y="44197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-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924680" y="358128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553080" y="25146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у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229600" y="35053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х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Повторение.</a:t>
            </a:r>
            <a:br>
              <a:rPr sz="4400"/>
            </a:b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Tестирование.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Garamond"/>
              </a:rPr>
              <a:t>Выбери вариант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29200" y="4648320"/>
            <a:ext cx="2971800" cy="609480"/>
          </a:xfrm>
          <a:custGeom>
            <a:avLst/>
            <a:gdLst>
              <a:gd name="textAreaLeft" fmla="*/ 39240 w 2971800"/>
              <a:gd name="textAreaRight" fmla="*/ 2932560 w 2971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05271" h="21600">
                <a:moveTo>
                  <a:pt x="0" y="0"/>
                </a:moveTo>
                <a:lnTo>
                  <a:pt x="105271" y="0"/>
                </a:lnTo>
                <a:lnTo>
                  <a:pt x="105271" y="21600"/>
                </a:lnTo>
                <a:lnTo>
                  <a:pt x="0" y="21600"/>
                </a:lnTo>
                <a:close/>
              </a:path>
              <a:path fill="lightenLess" w="105271" h="21600">
                <a:moveTo>
                  <a:pt x="0" y="0"/>
                </a:moveTo>
                <a:lnTo>
                  <a:pt x="105271" y="0"/>
                </a:lnTo>
                <a:lnTo>
                  <a:pt x="103871" y="1400"/>
                </a:lnTo>
                <a:lnTo>
                  <a:pt x="1400" y="1400"/>
                </a:lnTo>
                <a:close/>
              </a:path>
              <a:path fill="darken" w="105271" h="21600">
                <a:moveTo>
                  <a:pt x="105271" y="0"/>
                </a:moveTo>
                <a:lnTo>
                  <a:pt x="105271" y="21600"/>
                </a:lnTo>
                <a:lnTo>
                  <a:pt x="103871" y="20200"/>
                </a:lnTo>
                <a:lnTo>
                  <a:pt x="103871" y="1400"/>
                </a:lnTo>
                <a:close/>
              </a:path>
              <a:path fill="darkenLess" w="105271" h="21600">
                <a:moveTo>
                  <a:pt x="105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871" y="20200"/>
                </a:lnTo>
                <a:close/>
              </a:path>
              <a:path fill="lighten" w="105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5271" h="21600">
                <a:moveTo>
                  <a:pt x="45629" y="7493"/>
                </a:moveTo>
                <a:lnTo>
                  <a:pt x="49137" y="7493"/>
                </a:lnTo>
                <a:lnTo>
                  <a:pt x="49137" y="12828"/>
                </a:lnTo>
                <a:cubicBezTo>
                  <a:pt x="49137" y="13751"/>
                  <a:pt x="49938" y="14482"/>
                  <a:pt x="50973" y="14482"/>
                </a:cubicBezTo>
                <a:lnTo>
                  <a:pt x="52636" y="14482"/>
                </a:lnTo>
                <a:cubicBezTo>
                  <a:pt x="53671" y="14482"/>
                  <a:pt x="54472" y="13751"/>
                  <a:pt x="54472" y="12828"/>
                </a:cubicBezTo>
                <a:lnTo>
                  <a:pt x="54472" y="7493"/>
                </a:lnTo>
                <a:lnTo>
                  <a:pt x="52636" y="7493"/>
                </a:lnTo>
                <a:lnTo>
                  <a:pt x="56143" y="3985"/>
                </a:lnTo>
                <a:lnTo>
                  <a:pt x="59816" y="7493"/>
                </a:lnTo>
                <a:lnTo>
                  <a:pt x="57980" y="7493"/>
                </a:lnTo>
                <a:lnTo>
                  <a:pt x="57980" y="12828"/>
                </a:lnTo>
                <a:cubicBezTo>
                  <a:pt x="57980" y="15596"/>
                  <a:pt x="55403" y="18155"/>
                  <a:pt x="52636" y="18155"/>
                </a:cubicBezTo>
                <a:lnTo>
                  <a:pt x="50973" y="18155"/>
                </a:lnTo>
                <a:cubicBezTo>
                  <a:pt x="48205" y="18155"/>
                  <a:pt x="45629" y="15596"/>
                  <a:pt x="45629" y="12828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Вари</a:t>
            </a:r>
            <a:r>
              <a:rPr b="0" lang="en-US" sz="2400" spc="-1" strike="noStrike" u="sng">
                <a:solidFill>
                  <a:srgbClr val="bdd7e5"/>
                </a:solidFill>
                <a:uFillTx/>
                <a:latin typeface="Times New Roman"/>
                <a:hlinkClick r:id="rId2" action="ppaction://hlinksldjump"/>
              </a:rPr>
              <a:t>а</a:t>
            </a:r>
            <a:r>
              <a:rPr b="0" lang="en-US" sz="2400" spc="-1" strike="noStrike" u="sng">
                <a:solidFill>
                  <a:srgbClr val="bdd7e5"/>
                </a:solidFill>
                <a:uFillTx/>
                <a:latin typeface="Times New Roman"/>
                <a:hlinkClick r:id="rId3" action="ppaction://hlinksldjump"/>
              </a:rPr>
              <a:t>нт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           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20120" y="57913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14848" y="3837"/>
                </a:moveTo>
                <a:lnTo>
                  <a:pt x="17425" y="6448"/>
                </a:lnTo>
                <a:lnTo>
                  <a:pt x="17425" y="4707"/>
                </a:lnTo>
                <a:lnTo>
                  <a:pt x="19200" y="4707"/>
                </a:lnTo>
                <a:lnTo>
                  <a:pt x="19200" y="8224"/>
                </a:lnTo>
                <a:lnTo>
                  <a:pt x="21811" y="10800"/>
                </a:lnTo>
                <a:lnTo>
                  <a:pt x="20158" y="10800"/>
                </a:lnTo>
                <a:lnTo>
                  <a:pt x="20158" y="17989"/>
                </a:lnTo>
                <a:lnTo>
                  <a:pt x="9539" y="17989"/>
                </a:lnTo>
                <a:lnTo>
                  <a:pt x="9539" y="10800"/>
                </a:lnTo>
                <a:lnTo>
                  <a:pt x="7885" y="10800"/>
                </a:lnTo>
                <a:close/>
              </a:path>
              <a:path fill="darkenLess" w="29697" h="21600">
                <a:moveTo>
                  <a:pt x="17425" y="6448"/>
                </a:moveTo>
                <a:lnTo>
                  <a:pt x="17425" y="4707"/>
                </a:lnTo>
                <a:lnTo>
                  <a:pt x="19200" y="4707"/>
                </a:lnTo>
                <a:lnTo>
                  <a:pt x="19200" y="8224"/>
                </a:lnTo>
                <a:close/>
              </a:path>
              <a:path fill="darkenLess" w="29697" h="21600">
                <a:moveTo>
                  <a:pt x="13926" y="14299"/>
                </a:moveTo>
                <a:lnTo>
                  <a:pt x="15771" y="14299"/>
                </a:lnTo>
                <a:lnTo>
                  <a:pt x="15771" y="17989"/>
                </a:lnTo>
                <a:lnTo>
                  <a:pt x="20158" y="17989"/>
                </a:lnTo>
                <a:lnTo>
                  <a:pt x="20158" y="10800"/>
                </a:lnTo>
                <a:lnTo>
                  <a:pt x="9539" y="10800"/>
                </a:lnTo>
                <a:lnTo>
                  <a:pt x="9539" y="17989"/>
                </a:lnTo>
                <a:lnTo>
                  <a:pt x="13926" y="17989"/>
                </a:lnTo>
                <a:close/>
              </a:path>
            </a:pathLst>
          </a:custGeom>
          <a:solidFill>
            <a:srgbClr val="6a79c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95280" y="4800600"/>
            <a:ext cx="2971800" cy="609480"/>
          </a:xfrm>
          <a:custGeom>
            <a:avLst/>
            <a:gdLst>
              <a:gd name="textAreaLeft" fmla="*/ 39240 w 2971800"/>
              <a:gd name="textAreaRight" fmla="*/ 2932560 w 2971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05271" h="21600">
                <a:moveTo>
                  <a:pt x="0" y="0"/>
                </a:moveTo>
                <a:lnTo>
                  <a:pt x="105271" y="0"/>
                </a:lnTo>
                <a:lnTo>
                  <a:pt x="105271" y="21600"/>
                </a:lnTo>
                <a:lnTo>
                  <a:pt x="0" y="21600"/>
                </a:lnTo>
                <a:close/>
              </a:path>
              <a:path fill="lightenLess" w="105271" h="21600">
                <a:moveTo>
                  <a:pt x="0" y="0"/>
                </a:moveTo>
                <a:lnTo>
                  <a:pt x="105271" y="0"/>
                </a:lnTo>
                <a:lnTo>
                  <a:pt x="103871" y="1400"/>
                </a:lnTo>
                <a:lnTo>
                  <a:pt x="1400" y="1400"/>
                </a:lnTo>
                <a:close/>
              </a:path>
              <a:path fill="darken" w="105271" h="21600">
                <a:moveTo>
                  <a:pt x="105271" y="0"/>
                </a:moveTo>
                <a:lnTo>
                  <a:pt x="105271" y="21600"/>
                </a:lnTo>
                <a:lnTo>
                  <a:pt x="103871" y="20200"/>
                </a:lnTo>
                <a:lnTo>
                  <a:pt x="103871" y="1400"/>
                </a:lnTo>
                <a:close/>
              </a:path>
              <a:path fill="darkenLess" w="105271" h="21600">
                <a:moveTo>
                  <a:pt x="105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871" y="20200"/>
                </a:lnTo>
                <a:close/>
              </a:path>
              <a:path fill="lighten" w="105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5271" h="21600">
                <a:moveTo>
                  <a:pt x="45629" y="7493"/>
                </a:moveTo>
                <a:lnTo>
                  <a:pt x="49137" y="7493"/>
                </a:lnTo>
                <a:lnTo>
                  <a:pt x="49137" y="12828"/>
                </a:lnTo>
                <a:cubicBezTo>
                  <a:pt x="49137" y="13751"/>
                  <a:pt x="49938" y="14482"/>
                  <a:pt x="50973" y="14482"/>
                </a:cubicBezTo>
                <a:lnTo>
                  <a:pt x="52636" y="14482"/>
                </a:lnTo>
                <a:cubicBezTo>
                  <a:pt x="53671" y="14482"/>
                  <a:pt x="54472" y="13751"/>
                  <a:pt x="54472" y="12828"/>
                </a:cubicBezTo>
                <a:lnTo>
                  <a:pt x="54472" y="7493"/>
                </a:lnTo>
                <a:lnTo>
                  <a:pt x="52636" y="7493"/>
                </a:lnTo>
                <a:lnTo>
                  <a:pt x="56143" y="3985"/>
                </a:lnTo>
                <a:lnTo>
                  <a:pt x="59816" y="7493"/>
                </a:lnTo>
                <a:lnTo>
                  <a:pt x="57980" y="7493"/>
                </a:lnTo>
                <a:lnTo>
                  <a:pt x="57980" y="12828"/>
                </a:lnTo>
                <a:cubicBezTo>
                  <a:pt x="57980" y="15596"/>
                  <a:pt x="55403" y="18155"/>
                  <a:pt x="52636" y="18155"/>
                </a:cubicBezTo>
                <a:lnTo>
                  <a:pt x="50973" y="18155"/>
                </a:lnTo>
                <a:cubicBezTo>
                  <a:pt x="48205" y="18155"/>
                  <a:pt x="45629" y="15596"/>
                  <a:pt x="45629" y="12828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dd7e5"/>
                </a:solidFill>
                <a:uFillTx/>
                <a:latin typeface="Times New Roman"/>
                <a:hlinkClick r:id="rId4" action="ppaction://hlinksldjump"/>
              </a:rPr>
              <a:t>Вариант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          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76520" y="205740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! Возьмите листок бумаги. Выберите вариант - согласно чётности компьютера: чётный номер - вариант 2, нечётный номер - вариант 1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aramond"/>
              </a:rPr>
              <a:t>Вопрос 1.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66680" y="838080"/>
            <a:ext cx="731520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Garamond"/>
              </a:rPr>
              <a:t>Каков результат выполнения следующего алгоритм:а при а=20: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Garamond"/>
              </a:rPr>
              <a:t>Программа Вопрос_1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Garamond"/>
              </a:rPr>
              <a:t>Описание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Garamond"/>
              </a:rPr>
              <a:t>a,b: Вещественный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Garamond"/>
              </a:rPr>
              <a:t>Конец_Описания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Garamond"/>
              </a:rPr>
              <a:t>Ввод(a,'Введите любое число:'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Garamond"/>
              </a:rPr>
              <a:t>Вывод(a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Garamond"/>
              </a:rPr>
              <a:t>Новая_Строка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Garamond"/>
              </a:rPr>
              <a:t>Если a&gt;-5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Garamond"/>
              </a:rPr>
              <a:t>  </a:t>
            </a:r>
            <a:r>
              <a:rPr b="0" lang="ru-RU" sz="1600" spc="-1" strike="noStrike">
                <a:solidFill>
                  <a:srgbClr val="333333"/>
                </a:solidFill>
                <a:latin typeface="Garamond"/>
              </a:rPr>
              <a:t>То b:= Корень(5+a)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Garamond"/>
              </a:rPr>
              <a:t>Вывод(b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Garamond"/>
              </a:rPr>
              <a:t>  </a:t>
            </a:r>
            <a:r>
              <a:rPr b="0" lang="ru-RU" sz="1600" spc="-1" strike="noStrike">
                <a:solidFill>
                  <a:srgbClr val="333333"/>
                </a:solidFill>
                <a:latin typeface="Garamond"/>
              </a:rPr>
              <a:t>Иначе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Garamond"/>
              </a:rPr>
              <a:t>Вывод('Нет решений для введённого числа!'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Garamond"/>
              </a:rPr>
              <a:t>Конец_Если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Garamond"/>
              </a:rPr>
              <a:t>Конец_Программы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А) </a:t>
            </a:r>
            <a:r>
              <a:rPr b="0" lang="ru-RU" sz="1400" spc="-1" strike="noStrike">
                <a:solidFill>
                  <a:srgbClr val="c523eb"/>
                </a:solidFill>
                <a:latin typeface="Garamond"/>
              </a:rPr>
              <a:t>20,</a:t>
            </a: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 Б) </a:t>
            </a:r>
            <a:r>
              <a:rPr b="0" lang="ru-RU" sz="1400" spc="-1" strike="noStrike">
                <a:solidFill>
                  <a:srgbClr val="c523eb"/>
                </a:solidFill>
                <a:latin typeface="Garamond"/>
              </a:rPr>
              <a:t>5,</a:t>
            </a: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 В) </a:t>
            </a:r>
            <a:r>
              <a:rPr b="0" lang="ru-RU" sz="1400" spc="-1" strike="noStrike">
                <a:solidFill>
                  <a:srgbClr val="c523eb"/>
                </a:solidFill>
                <a:latin typeface="Garamond"/>
              </a:rPr>
              <a:t>'Нет решений для введённого числа!</a:t>
            </a:r>
            <a:r>
              <a:rPr b="0" lang="en-US" sz="1400" spc="-1" strike="noStrike">
                <a:solidFill>
                  <a:srgbClr val="c523eb"/>
                </a:solidFill>
                <a:latin typeface="Garamond"/>
              </a:rPr>
              <a:t>’.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7620120" y="60199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90" h="21600">
                <a:moveTo>
                  <a:pt x="16138" y="3794"/>
                </a:moveTo>
                <a:lnTo>
                  <a:pt x="30151" y="10800"/>
                </a:lnTo>
                <a:lnTo>
                  <a:pt x="16138" y="17806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562720" y="2681280"/>
          <a:ext cx="2666880" cy="227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62720" y="2681280"/>
                    <a:ext cx="2666880" cy="22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aramond"/>
              </a:rPr>
              <a:t>Вопрос 2.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43000" y="914400"/>
            <a:ext cx="6781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Garamond"/>
              </a:rPr>
              <a:t>Что делает следующая программа: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Программа Вариант1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Описание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f,k: Вещественный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Конец_Описания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Ввод(k,'Введите k:'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Если k&lt;&gt;3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  </a:t>
            </a: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То f:=(1+k)/(3-k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Вывод('k=',k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Новая_Строка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Вывод('f=',f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  </a:t>
            </a: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Иначе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Вывод('Нет решения!'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Конец_Если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Конец_Программы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А) 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вычисляет значение числителя (1+к)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Б) 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вычисляет значение знаменателя (3-к)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В) 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вычисляет значение выражения (1+k)/(3-k)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nextslide"/>
          </p:cNvPr>
          <p:cNvSpPr/>
          <p:nvPr/>
        </p:nvSpPr>
        <p:spPr>
          <a:xfrm>
            <a:off x="7620120" y="60199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90" h="21600">
                <a:moveTo>
                  <a:pt x="16138" y="3794"/>
                </a:moveTo>
                <a:lnTo>
                  <a:pt x="30151" y="10800"/>
                </a:lnTo>
                <a:lnTo>
                  <a:pt x="16138" y="17806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724280" y="1752480"/>
          <a:ext cx="3198960" cy="324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1752480"/>
                    <a:ext cx="319896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85800" y="1066680"/>
            <a:ext cx="7010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333333"/>
                </a:solidFill>
                <a:latin typeface="Garamond"/>
              </a:rPr>
              <a:t>Каков результат выполнения программы при а=345?</a:t>
            </a: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Программа Вариант1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Описание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a,a2: Целый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Конец_Описания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Ввод(a,'Введите трёхзначное число:'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Вывод(a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Новая_Строка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a2:=(a  Div 10)  Mod 1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Если a2 Mod 2 = 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  </a:t>
            </a: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То Вывод(a2,'- число чётное!'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  </a:t>
            </a: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Иначе  Вывод(a2,'- число не чётное!'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Конец_Если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Конец_Программы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А) 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'- число чётное!’; </a:t>
            </a: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Б)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‘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число не чётное!’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В) 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правильный ответ отсутствует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nextslide"/>
          </p:cNvPr>
          <p:cNvSpPr/>
          <p:nvPr/>
        </p:nvSpPr>
        <p:spPr>
          <a:xfrm>
            <a:off x="7620120" y="60199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90" h="21600">
                <a:moveTo>
                  <a:pt x="16138" y="3794"/>
                </a:moveTo>
                <a:lnTo>
                  <a:pt x="30151" y="10800"/>
                </a:lnTo>
                <a:lnTo>
                  <a:pt x="16138" y="17806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aramond"/>
              </a:rPr>
              <a:t>Вопрос 3.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5486400" y="1828800"/>
          <a:ext cx="2357280" cy="340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86400" y="1828800"/>
                    <a:ext cx="2357280" cy="34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1066680"/>
            <a:ext cx="7010280" cy="56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Garamond"/>
              </a:rPr>
              <a:t>Какой график функции будет построен в результате выполнения программы?</a:t>
            </a:r>
            <a:r>
              <a:rPr b="0" lang="en-US" sz="1800" spc="-1" strike="noStrike">
                <a:solidFill>
                  <a:srgbClr val="333333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Программа Парабола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Описание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n: Целый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x,y,h: Вещественный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Конец_Описания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n:=60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x:=-8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h:=18/n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Сместиться_В(x, 5* Квадрат(x)  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Опустить_Перо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Повторять_Пока x&lt;=10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x:=x+h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y:=5* Квадрат(x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Сместиться_В(x,y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Завершить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Конец_Программы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523eb"/>
                </a:solidFill>
                <a:latin typeface="Garamond"/>
              </a:rPr>
              <a:t>А) 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у=5+х</a:t>
            </a:r>
            <a:r>
              <a:rPr b="0" lang="en-US" sz="1800" spc="-1" strike="noStrike" baseline="30000">
                <a:solidFill>
                  <a:srgbClr val="c523eb"/>
                </a:solidFill>
                <a:latin typeface="Garamond"/>
              </a:rPr>
              <a:t>2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; </a:t>
            </a:r>
            <a:r>
              <a:rPr b="1" lang="en-US" sz="1800" spc="-1" strike="noStrike">
                <a:solidFill>
                  <a:srgbClr val="c523eb"/>
                </a:solidFill>
                <a:latin typeface="Garamond"/>
              </a:rPr>
              <a:t>Б)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 у=5*х</a:t>
            </a:r>
            <a:r>
              <a:rPr b="0" lang="en-US" sz="1800" spc="-1" strike="noStrike" baseline="30000">
                <a:solidFill>
                  <a:srgbClr val="c523eb"/>
                </a:solidFill>
                <a:latin typeface="Garamond"/>
              </a:rPr>
              <a:t>2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523eb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c523eb"/>
                </a:solidFill>
                <a:latin typeface="Garamond"/>
              </a:rPr>
              <a:t>В) 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у=х</a:t>
            </a:r>
            <a:r>
              <a:rPr b="0" lang="en-US" sz="1800" spc="-1" strike="noStrike" baseline="30000">
                <a:solidFill>
                  <a:srgbClr val="c523eb"/>
                </a:solidFill>
                <a:latin typeface="Garamond"/>
              </a:rPr>
              <a:t>2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-5х+1; </a:t>
            </a:r>
            <a:r>
              <a:rPr b="1" lang="en-US" sz="1800" spc="-1" strike="noStrike">
                <a:solidFill>
                  <a:srgbClr val="c523eb"/>
                </a:solidFill>
                <a:latin typeface="Garamond"/>
              </a:rPr>
              <a:t>Г) 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правильный ответ отсутствует.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7620120" y="60199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90" h="21600">
                <a:moveTo>
                  <a:pt x="16138" y="3794"/>
                </a:moveTo>
                <a:lnTo>
                  <a:pt x="30151" y="10800"/>
                </a:lnTo>
                <a:lnTo>
                  <a:pt x="16138" y="17806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aramond"/>
              </a:rPr>
              <a:t>Вопрос 4.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5181480" y="1981080"/>
          <a:ext cx="2171880" cy="327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1480" y="1981080"/>
                    <a:ext cx="2171880" cy="32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85800" y="1066680"/>
            <a:ext cx="7010280" cy="51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333333"/>
                </a:solidFill>
                <a:latin typeface="Garamond"/>
              </a:rPr>
              <a:t>Каков будет ответ в результате выполнения программы при х=5, у=2?</a:t>
            </a: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Программа Принадлежность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Описание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x,y: Вещественный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l,k: Логический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Конец_Описания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Ввод(x,'Введите координату х:'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Ввод(y,'Введите координату y:'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l:=(x&gt;=-1) и (x&lt;=5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k:=(y&gt;=-3) и (y&lt;=3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Если l и k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То Вывод('Принадлежит!'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Иначе  Вывод('Не принадлежит!'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Конец_Если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Конец_Программы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А) 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'Принадлежит!’; </a:t>
            </a: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Б)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‘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Не принадлежит!’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В) 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правильный ответ отсутствует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nextslide"/>
          </p:cNvPr>
          <p:cNvSpPr/>
          <p:nvPr/>
        </p:nvSpPr>
        <p:spPr>
          <a:xfrm>
            <a:off x="7620120" y="60199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90" h="21600">
                <a:moveTo>
                  <a:pt x="16138" y="3794"/>
                </a:moveTo>
                <a:lnTo>
                  <a:pt x="30151" y="10800"/>
                </a:lnTo>
                <a:lnTo>
                  <a:pt x="16138" y="17806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aramond"/>
              </a:rPr>
              <a:t>Вопрос 5.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057560" y="2254320"/>
          <a:ext cx="3562560" cy="269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57560" y="2254320"/>
                    <a:ext cx="356256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85800" y="1066680"/>
            <a:ext cx="7010280" cy="51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333333"/>
                </a:solidFill>
                <a:latin typeface="Garamond"/>
              </a:rPr>
              <a:t>Каков будет ответ в результате выполнения программы при у=1, х=-2?</a:t>
            </a: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Программа Принадлежность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Описание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x,y: Вещественный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l,k: Логический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Конец_Описания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Ввод(x,'Введите координату х:'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Ввод(y,'Введите координату y:'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l:=(x&gt;=-1) и (x&lt;=5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k:=(y&gt;=-3) и (y&lt;=3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Если l и k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То Вывод('Принадлежит!'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Иначе  Вывод('Не принадлежит!'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Конец_Если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Конец_Программы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А) 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'Принадлежит!’; </a:t>
            </a: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Б)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‘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Не принадлежит!’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В) 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правильный ответ отсутствует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7620120" y="60199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90" h="21600">
                <a:moveTo>
                  <a:pt x="16138" y="3794"/>
                </a:moveTo>
                <a:lnTo>
                  <a:pt x="30151" y="10800"/>
                </a:lnTo>
                <a:lnTo>
                  <a:pt x="16138" y="17806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aramond"/>
              </a:rPr>
              <a:t>Вопрос 6.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5029200" y="1676520"/>
          <a:ext cx="2416320" cy="348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29200" y="1676520"/>
                    <a:ext cx="2416320" cy="34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1066680"/>
            <a:ext cx="7010280" cy="43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Garamond"/>
              </a:rPr>
              <a:t>Каков результат выполнения программы при n=4?</a:t>
            </a:r>
            <a:r>
              <a:rPr b="0" lang="en-US" sz="1800" spc="-1" strike="noStrike">
                <a:solidFill>
                  <a:srgbClr val="333333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Программа Вариант1_1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Описание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s,k,n: Целый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Конец_Описания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Ввод(n,'Введите n:'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k:=2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s:=0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Повторять_Пока k&lt;=n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s:=s+k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k:=k+2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Завершить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Вывод(s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Конец_Программы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523eb"/>
                </a:solidFill>
                <a:latin typeface="Garamond"/>
              </a:rPr>
              <a:t>А) 2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; </a:t>
            </a:r>
            <a:r>
              <a:rPr b="1" lang="en-US" sz="1800" spc="-1" strike="noStrike">
                <a:solidFill>
                  <a:srgbClr val="c523eb"/>
                </a:solidFill>
                <a:latin typeface="Garamond"/>
              </a:rPr>
              <a:t>Б)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 4; </a:t>
            </a:r>
            <a:r>
              <a:rPr b="1" lang="en-US" sz="1800" spc="-1" strike="noStrike">
                <a:solidFill>
                  <a:srgbClr val="c523eb"/>
                </a:solidFill>
                <a:latin typeface="Garamond"/>
              </a:rPr>
              <a:t> В) 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6;</a:t>
            </a:r>
            <a:r>
              <a:rPr b="1" lang="en-US" sz="1800" spc="-1" strike="noStrike">
                <a:solidFill>
                  <a:srgbClr val="c523eb"/>
                </a:solidFill>
                <a:latin typeface="Garamond"/>
              </a:rPr>
              <a:t> Г) 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правильный ответ отсутствует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6" name="">
            <a:hlinkClick r:id="" action="ppaction://hlinkshowjump?jump=nextslide"/>
          </p:cNvPr>
          <p:cNvSpPr/>
          <p:nvPr/>
        </p:nvSpPr>
        <p:spPr>
          <a:xfrm>
            <a:off x="7620120" y="60199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90" h="21600">
                <a:moveTo>
                  <a:pt x="16138" y="3794"/>
                </a:moveTo>
                <a:lnTo>
                  <a:pt x="30151" y="10800"/>
                </a:lnTo>
                <a:lnTo>
                  <a:pt x="16138" y="17806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aramond"/>
              </a:rPr>
              <a:t>Вопрос 7.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4648320" y="2057400"/>
          <a:ext cx="2819160" cy="246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2057400"/>
                    <a:ext cx="2819160" cy="24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План работ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95360" y="1828440"/>
            <a:ext cx="77486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Проверка домашнего задания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66720" y="2362320"/>
            <a:ext cx="7577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Повторение. Тестирование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66720" y="3809880"/>
            <a:ext cx="7577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Физминутка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66720" y="4495680"/>
            <a:ext cx="7577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Составление алгоритмов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66720" y="3048120"/>
            <a:ext cx="7577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Команда повторения «Для»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7315200" y="18288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3794"/>
                </a:moveTo>
                <a:lnTo>
                  <a:pt x="32920" y="10800"/>
                </a:lnTo>
                <a:lnTo>
                  <a:pt x="18907" y="17806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">
            <a:hlinkClick r:id="rId2" action="ppaction://hlinksldjump"/>
          </p:cNvPr>
          <p:cNvSpPr/>
          <p:nvPr/>
        </p:nvSpPr>
        <p:spPr>
          <a:xfrm>
            <a:off x="7010280" y="243828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3794"/>
                </a:moveTo>
                <a:lnTo>
                  <a:pt x="26805" y="10800"/>
                </a:lnTo>
                <a:lnTo>
                  <a:pt x="12792" y="17806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10280" y="312408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3794"/>
                </a:moveTo>
                <a:lnTo>
                  <a:pt x="26805" y="10800"/>
                </a:lnTo>
                <a:lnTo>
                  <a:pt x="12792" y="17806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19720" y="3962520"/>
            <a:ext cx="761760" cy="38088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00800" y="45720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66720" y="5181480"/>
            <a:ext cx="7577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Домашнее задание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5257800"/>
            <a:ext cx="761760" cy="457200"/>
          </a:xfrm>
          <a:custGeom>
            <a:avLst/>
            <a:gdLst>
              <a:gd name="textAreaLeft" fmla="*/ 29520 w 761760"/>
              <a:gd name="textAreaRight" fmla="*/ 732240 w 761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77" h="21600">
                <a:moveTo>
                  <a:pt x="0" y="0"/>
                </a:moveTo>
                <a:lnTo>
                  <a:pt x="35977" y="0"/>
                </a:lnTo>
                <a:lnTo>
                  <a:pt x="35977" y="21600"/>
                </a:lnTo>
                <a:lnTo>
                  <a:pt x="0" y="21600"/>
                </a:lnTo>
                <a:close/>
              </a:path>
              <a:path fill="lightenLess" w="35977" h="21600">
                <a:moveTo>
                  <a:pt x="0" y="0"/>
                </a:moveTo>
                <a:lnTo>
                  <a:pt x="35977" y="0"/>
                </a:lnTo>
                <a:lnTo>
                  <a:pt x="34577" y="1400"/>
                </a:lnTo>
                <a:lnTo>
                  <a:pt x="1400" y="1400"/>
                </a:lnTo>
                <a:close/>
              </a:path>
              <a:path fill="darken" w="35977" h="21600">
                <a:moveTo>
                  <a:pt x="35977" y="0"/>
                </a:moveTo>
                <a:lnTo>
                  <a:pt x="35977" y="21600"/>
                </a:lnTo>
                <a:lnTo>
                  <a:pt x="34577" y="20200"/>
                </a:lnTo>
                <a:lnTo>
                  <a:pt x="34577" y="1400"/>
                </a:lnTo>
                <a:close/>
              </a:path>
              <a:path fill="darkenLess" w="35977" h="21600">
                <a:moveTo>
                  <a:pt x="35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7" y="20200"/>
                </a:lnTo>
                <a:close/>
              </a:path>
              <a:path fill="lighten" w="35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77" h="21600">
                <a:moveTo>
                  <a:pt x="10982" y="3794"/>
                </a:moveTo>
                <a:lnTo>
                  <a:pt x="24995" y="10800"/>
                </a:lnTo>
                <a:lnTo>
                  <a:pt x="10982" y="17806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5943600"/>
            <a:ext cx="7576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*** Команда Для и Робо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6019920"/>
            <a:ext cx="761760" cy="457200"/>
          </a:xfrm>
          <a:custGeom>
            <a:avLst/>
            <a:gdLst>
              <a:gd name="textAreaLeft" fmla="*/ 29520 w 761760"/>
              <a:gd name="textAreaRight" fmla="*/ 732240 w 761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77" h="21600">
                <a:moveTo>
                  <a:pt x="0" y="0"/>
                </a:moveTo>
                <a:lnTo>
                  <a:pt x="35977" y="0"/>
                </a:lnTo>
                <a:lnTo>
                  <a:pt x="35977" y="21600"/>
                </a:lnTo>
                <a:lnTo>
                  <a:pt x="0" y="21600"/>
                </a:lnTo>
                <a:close/>
              </a:path>
              <a:path fill="lightenLess" w="35977" h="21600">
                <a:moveTo>
                  <a:pt x="0" y="0"/>
                </a:moveTo>
                <a:lnTo>
                  <a:pt x="35977" y="0"/>
                </a:lnTo>
                <a:lnTo>
                  <a:pt x="34577" y="1400"/>
                </a:lnTo>
                <a:lnTo>
                  <a:pt x="1400" y="1400"/>
                </a:lnTo>
                <a:close/>
              </a:path>
              <a:path fill="darken" w="35977" h="21600">
                <a:moveTo>
                  <a:pt x="35977" y="0"/>
                </a:moveTo>
                <a:lnTo>
                  <a:pt x="35977" y="21600"/>
                </a:lnTo>
                <a:lnTo>
                  <a:pt x="34577" y="20200"/>
                </a:lnTo>
                <a:lnTo>
                  <a:pt x="34577" y="1400"/>
                </a:lnTo>
                <a:close/>
              </a:path>
              <a:path fill="darkenLess" w="35977" h="21600">
                <a:moveTo>
                  <a:pt x="35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7" y="20200"/>
                </a:lnTo>
                <a:close/>
              </a:path>
              <a:path fill="lighten" w="35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77" h="21600">
                <a:moveTo>
                  <a:pt x="10982" y="3794"/>
                </a:moveTo>
                <a:lnTo>
                  <a:pt x="24995" y="10800"/>
                </a:lnTo>
                <a:lnTo>
                  <a:pt x="10982" y="17806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85800" y="1066680"/>
            <a:ext cx="7010280" cy="46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333333"/>
                </a:solidFill>
                <a:latin typeface="Garamond"/>
              </a:rPr>
              <a:t>Какую сумму вычисляет следующий алгоритм?</a:t>
            </a: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Программа Вариант_1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Описание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s,k,n: Целый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Конец_Описания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Ввод(n,'Введите n:'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k:=5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s:=0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Повторять_Пока k&lt;=n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s:=s+k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k:=k+4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Завершить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Вывод(s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Конец_Программы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А) 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s=5+10+15+…+n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; </a:t>
            </a: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Б)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 s=5+4+3+…+n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В) 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s=5+9+13+…+n;</a:t>
            </a: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 Г) 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правильный ответ отсутствует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7620120" y="60199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90" h="21600">
                <a:moveTo>
                  <a:pt x="16138" y="3794"/>
                </a:moveTo>
                <a:lnTo>
                  <a:pt x="30151" y="10800"/>
                </a:lnTo>
                <a:lnTo>
                  <a:pt x="16138" y="17806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aramond"/>
              </a:rPr>
              <a:t>Вопрос 8.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6629400" y="1143000"/>
          <a:ext cx="1906560" cy="421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1143000"/>
                    <a:ext cx="1906560" cy="42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>
            <a:hlinkClick r:id="" action="ppaction://hlinkshowjump?jump=nextslide"/>
          </p:cNvPr>
          <p:cNvSpPr/>
          <p:nvPr/>
        </p:nvSpPr>
        <p:spPr>
          <a:xfrm>
            <a:off x="7620120" y="60199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90" h="21600">
                <a:moveTo>
                  <a:pt x="16138" y="3794"/>
                </a:moveTo>
                <a:lnTo>
                  <a:pt x="30151" y="10800"/>
                </a:lnTo>
                <a:lnTo>
                  <a:pt x="16138" y="17806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aramond"/>
              </a:rPr>
              <a:t>Вопрос 9.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1066680"/>
            <a:ext cx="7010280" cy="46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333333"/>
                </a:solidFill>
                <a:latin typeface="Garamond"/>
              </a:rPr>
              <a:t>Какую сумму вычисляет следующий алгоритм?</a:t>
            </a: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Программа Вариант_1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Описание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s,k,n: Целый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Конец_Описания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Ввод(n,'Введите n:'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k:=8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s:=0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Повторять_Пока k&lt;=n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s:=s+k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^3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k:=k+2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Завершить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Вывод(s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Конец_Программы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А) 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s=8+10+12+…+n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; </a:t>
            </a: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Б)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 s=8</a:t>
            </a:r>
            <a:r>
              <a:rPr b="0" lang="ru-RU" sz="1800" spc="-1" strike="noStrike" baseline="30000">
                <a:solidFill>
                  <a:srgbClr val="c523eb"/>
                </a:solidFill>
                <a:latin typeface="Garamond"/>
              </a:rPr>
              <a:t>2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+11</a:t>
            </a:r>
            <a:r>
              <a:rPr b="0" lang="ru-RU" sz="1800" spc="-1" strike="noStrike" baseline="30000">
                <a:solidFill>
                  <a:srgbClr val="c523eb"/>
                </a:solidFill>
                <a:latin typeface="Garamond"/>
              </a:rPr>
              <a:t>2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+14</a:t>
            </a:r>
            <a:r>
              <a:rPr b="0" lang="ru-RU" sz="1800" spc="-1" strike="noStrike" baseline="30000">
                <a:solidFill>
                  <a:srgbClr val="c523eb"/>
                </a:solidFill>
                <a:latin typeface="Garamond"/>
              </a:rPr>
              <a:t>2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+…+n</a:t>
            </a:r>
            <a:r>
              <a:rPr b="0" lang="ru-RU" sz="1800" spc="-1" strike="noStrike" baseline="30000">
                <a:solidFill>
                  <a:srgbClr val="c523eb"/>
                </a:solidFill>
                <a:latin typeface="Garamond"/>
              </a:rPr>
              <a:t>2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В) 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s=8</a:t>
            </a:r>
            <a:r>
              <a:rPr b="0" lang="ru-RU" sz="1800" spc="-1" strike="noStrike" baseline="30000">
                <a:solidFill>
                  <a:srgbClr val="c523eb"/>
                </a:solidFill>
                <a:latin typeface="Garamond"/>
              </a:rPr>
              <a:t>3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+10</a:t>
            </a:r>
            <a:r>
              <a:rPr b="0" lang="ru-RU" sz="1800" spc="-1" strike="noStrike" baseline="30000">
                <a:solidFill>
                  <a:srgbClr val="c523eb"/>
                </a:solidFill>
                <a:latin typeface="Garamond"/>
              </a:rPr>
              <a:t>3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+12</a:t>
            </a:r>
            <a:r>
              <a:rPr b="0" lang="ru-RU" sz="1800" spc="-1" strike="noStrike" baseline="30000">
                <a:solidFill>
                  <a:srgbClr val="c523eb"/>
                </a:solidFill>
                <a:latin typeface="Garamond"/>
              </a:rPr>
              <a:t>3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+…+n</a:t>
            </a:r>
            <a:r>
              <a:rPr b="0" lang="ru-RU" sz="1800" spc="-1" strike="noStrike" baseline="30000">
                <a:solidFill>
                  <a:srgbClr val="c523eb"/>
                </a:solidFill>
                <a:latin typeface="Garamond"/>
              </a:rPr>
              <a:t>3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;</a:t>
            </a: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 Г) 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правильный ответ отсутствует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5715000" y="609480"/>
          <a:ext cx="2844720" cy="434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15000" y="609480"/>
                    <a:ext cx="2844720" cy="43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85800" y="1066680"/>
            <a:ext cx="7010280" cy="54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Garamond"/>
              </a:rPr>
              <a:t>Каков результат выполнения программы?</a:t>
            </a:r>
            <a:r>
              <a:rPr b="0" lang="en-US" sz="1800" spc="-1" strike="noStrike">
                <a:solidFill>
                  <a:srgbClr val="333333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Программа Робот_1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Описание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k: Целый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Конец_Описания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k:=1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Повторять_Пока  Внизу_Пусто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Закрасить(k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Вниз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k:=k+1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Если k&gt;16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То k:=1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Конец_Если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Завершить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Конец_Программы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523eb"/>
                </a:solidFill>
                <a:latin typeface="Garamond"/>
              </a:rPr>
              <a:t>А) 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робот шагает вверх и закрашивает клетки разными цветами; </a:t>
            </a:r>
            <a:r>
              <a:rPr b="1" lang="en-US" sz="1800" spc="-1" strike="noStrike">
                <a:solidFill>
                  <a:srgbClr val="c523eb"/>
                </a:solidFill>
                <a:latin typeface="Garamond"/>
              </a:rPr>
              <a:t>Б)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 робот шагает вправо и закрашивает клетки разными цветами; </a:t>
            </a:r>
            <a:r>
              <a:rPr b="1" lang="en-US" sz="1800" spc="-1" strike="noStrike">
                <a:solidFill>
                  <a:srgbClr val="c523eb"/>
                </a:solidFill>
                <a:latin typeface="Garamond"/>
              </a:rPr>
              <a:t> В) 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робот шагает вниз;</a:t>
            </a:r>
            <a:r>
              <a:rPr b="1" lang="en-US" sz="1800" spc="-1" strike="noStrike">
                <a:solidFill>
                  <a:srgbClr val="c523eb"/>
                </a:solidFill>
                <a:latin typeface="Garamond"/>
              </a:rPr>
              <a:t> Г)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правильный ответ отсутствует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aramond"/>
              </a:rPr>
              <a:t>Вопрос 10.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2" name="">
            <a:hlinkClick r:id="rId2" action="ppaction://hlinksldjump"/>
          </p:cNvPr>
          <p:cNvSpPr/>
          <p:nvPr/>
        </p:nvSpPr>
        <p:spPr>
          <a:xfrm>
            <a:off x="7620120" y="541008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6" h="21600">
                <a:moveTo>
                  <a:pt x="11628" y="3837"/>
                </a:moveTo>
                <a:lnTo>
                  <a:pt x="14204" y="6448"/>
                </a:ln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lnTo>
                  <a:pt x="18591" y="10800"/>
                </a:lnTo>
                <a:lnTo>
                  <a:pt x="16937" y="10800"/>
                </a:lnTo>
                <a:lnTo>
                  <a:pt x="16937" y="17989"/>
                </a:lnTo>
                <a:lnTo>
                  <a:pt x="6318" y="17989"/>
                </a:lnTo>
                <a:lnTo>
                  <a:pt x="6318" y="10800"/>
                </a:lnTo>
                <a:lnTo>
                  <a:pt x="4665" y="10800"/>
                </a:lnTo>
                <a:close/>
              </a:path>
              <a:path fill="darkenLess" w="23256" h="21600">
                <a:moveTo>
                  <a:pt x="14204" y="6448"/>
                </a:move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close/>
              </a:path>
              <a:path fill="darkenLess" w="23256" h="21600">
                <a:moveTo>
                  <a:pt x="10705" y="14299"/>
                </a:moveTo>
                <a:lnTo>
                  <a:pt x="12550" y="14299"/>
                </a:lnTo>
                <a:lnTo>
                  <a:pt x="12550" y="17989"/>
                </a:lnTo>
                <a:lnTo>
                  <a:pt x="16937" y="17989"/>
                </a:lnTo>
                <a:lnTo>
                  <a:pt x="16937" y="10800"/>
                </a:lnTo>
                <a:lnTo>
                  <a:pt x="6318" y="10800"/>
                </a:lnTo>
                <a:lnTo>
                  <a:pt x="6318" y="17989"/>
                </a:lnTo>
                <a:lnTo>
                  <a:pt x="10705" y="17989"/>
                </a:lnTo>
                <a:close/>
              </a:path>
            </a:pathLst>
          </a:cu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2743200" y="1600200"/>
          <a:ext cx="5867280" cy="304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1600200"/>
                    <a:ext cx="5867280" cy="30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aramond"/>
              </a:rPr>
              <a:t>Вопрос 1.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66680" y="838080"/>
            <a:ext cx="731520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Garamond"/>
              </a:rPr>
              <a:t>Каков результат выполнения следующего алгоритм:а при а=4: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Garamond"/>
              </a:rPr>
              <a:t>Программа Вопрос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Garamond"/>
              </a:rPr>
              <a:t>Описание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Garamond"/>
              </a:rPr>
              <a:t>a,b: Вещественный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Garamond"/>
              </a:rPr>
              <a:t>Конец_Описания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Garamond"/>
              </a:rPr>
              <a:t>Ввод(a,'Введите любое число:'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Garamond"/>
              </a:rPr>
              <a:t>Вывод(a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Garamond"/>
              </a:rPr>
              <a:t>Новая_Строка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Garamond"/>
              </a:rPr>
              <a:t>Если a&lt;10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Garamond"/>
              </a:rPr>
              <a:t>  </a:t>
            </a:r>
            <a:r>
              <a:rPr b="0" lang="ru-RU" sz="1600" spc="-1" strike="noStrike">
                <a:solidFill>
                  <a:srgbClr val="333333"/>
                </a:solidFill>
                <a:latin typeface="Garamond"/>
              </a:rPr>
              <a:t>То b:= Квадрат(5+a)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Garamond"/>
              </a:rPr>
              <a:t>Вывод(b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Garamond"/>
              </a:rPr>
              <a:t>  </a:t>
            </a:r>
            <a:r>
              <a:rPr b="0" lang="ru-RU" sz="1600" spc="-1" strike="noStrike">
                <a:solidFill>
                  <a:srgbClr val="333333"/>
                </a:solidFill>
                <a:latin typeface="Garamond"/>
              </a:rPr>
              <a:t>Иначе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Garamond"/>
              </a:rPr>
              <a:t>Вывод('Нет решений для введённого числа!'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Garamond"/>
              </a:rPr>
              <a:t>Конец_Если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Garamond"/>
              </a:rPr>
              <a:t>Конец_Программы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А) </a:t>
            </a:r>
            <a:r>
              <a:rPr b="0" lang="ru-RU" sz="1400" spc="-1" strike="noStrike">
                <a:solidFill>
                  <a:srgbClr val="c523eb"/>
                </a:solidFill>
                <a:latin typeface="Garamond"/>
              </a:rPr>
              <a:t>4,</a:t>
            </a: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 Б) </a:t>
            </a:r>
            <a:r>
              <a:rPr b="0" lang="ru-RU" sz="1400" spc="-1" strike="noStrike">
                <a:solidFill>
                  <a:srgbClr val="c523eb"/>
                </a:solidFill>
                <a:latin typeface="Garamond"/>
              </a:rPr>
              <a:t>81,</a:t>
            </a: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 В) </a:t>
            </a:r>
            <a:r>
              <a:rPr b="0" lang="ru-RU" sz="1400" spc="-1" strike="noStrike">
                <a:solidFill>
                  <a:srgbClr val="c523eb"/>
                </a:solidFill>
                <a:latin typeface="Garamond"/>
              </a:rPr>
              <a:t>25;</a:t>
            </a: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 Г) </a:t>
            </a:r>
            <a:r>
              <a:rPr b="0" lang="ru-RU" sz="1400" spc="-1" strike="noStrike">
                <a:solidFill>
                  <a:srgbClr val="c523eb"/>
                </a:solidFill>
                <a:latin typeface="Garamond"/>
              </a:rPr>
              <a:t>'Нет решений для введённого числа!</a:t>
            </a:r>
            <a:r>
              <a:rPr b="0" lang="en-US" sz="1400" spc="-1" strike="noStrike">
                <a:solidFill>
                  <a:srgbClr val="c523eb"/>
                </a:solidFill>
                <a:latin typeface="Garamond"/>
              </a:rPr>
              <a:t>’.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7" name="">
            <a:hlinkClick r:id="" action="ppaction://hlinkshowjump?jump=nextslide"/>
          </p:cNvPr>
          <p:cNvSpPr/>
          <p:nvPr/>
        </p:nvSpPr>
        <p:spPr>
          <a:xfrm>
            <a:off x="7620120" y="60199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90" h="21600">
                <a:moveTo>
                  <a:pt x="16138" y="3794"/>
                </a:moveTo>
                <a:lnTo>
                  <a:pt x="30151" y="10800"/>
                </a:lnTo>
                <a:lnTo>
                  <a:pt x="16138" y="17806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6248520" y="3324240"/>
          <a:ext cx="2590560" cy="201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48520" y="3324240"/>
                    <a:ext cx="2590560" cy="201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aramond"/>
              </a:rPr>
              <a:t>Вопрос 2.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143000" y="914400"/>
            <a:ext cx="6781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Garamond"/>
              </a:rPr>
              <a:t>Что делает следующая программа: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Программа Вариант2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Описание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f,k: Вещественный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Конец_Описания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Ввод(k,'Введите k:'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Если k&gt;=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  </a:t>
            </a: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То f:=Корень(k)/(3+k*</a:t>
            </a:r>
            <a:r>
              <a:rPr b="0" lang="en-US" sz="1800" spc="-1" strike="noStrike">
                <a:solidFill>
                  <a:srgbClr val="333333"/>
                </a:solidFill>
                <a:latin typeface="Garamond"/>
              </a:rPr>
              <a:t>k</a:t>
            </a: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Вывод('k=',k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Новая_Строка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Вывод('f=',f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  </a:t>
            </a: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Иначе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Вывод('Нет решения!'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Конец_Если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Конец_Программы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А) 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вычисляет значение числителя </a:t>
            </a:r>
            <a:r>
              <a:rPr b="0" lang="be-BY" sz="1800" spc="-1" strike="noStrike">
                <a:solidFill>
                  <a:srgbClr val="c523eb"/>
                </a:solidFill>
                <a:latin typeface="Garamond"/>
              </a:rPr>
              <a:t>К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орень(к)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Б) 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вычисляет значение знаменателя (3+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k*k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В) 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вычисляет значение выражения Корень(k)/(3+k*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k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)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">
            <a:hlinkClick r:id="" action="ppaction://hlinkshowjump?jump=nextslide"/>
          </p:cNvPr>
          <p:cNvSpPr/>
          <p:nvPr/>
        </p:nvSpPr>
        <p:spPr>
          <a:xfrm>
            <a:off x="7620120" y="60199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90" h="21600">
                <a:moveTo>
                  <a:pt x="16138" y="3794"/>
                </a:moveTo>
                <a:lnTo>
                  <a:pt x="30151" y="10800"/>
                </a:lnTo>
                <a:lnTo>
                  <a:pt x="16138" y="17806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8320" y="1760400"/>
          <a:ext cx="4343400" cy="387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1760400"/>
                    <a:ext cx="4343400" cy="38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85800" y="1066680"/>
            <a:ext cx="7010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333333"/>
                </a:solidFill>
                <a:latin typeface="Garamond"/>
              </a:rPr>
              <a:t>Каков результат выполнения программы при а=678?</a:t>
            </a: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Программа Вариант1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Описание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a,a2: Целый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Конец_Описания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Ввод(a,'Введите трёхзначное число:'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Вывод(a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Новая_Строка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a2:=(a  Div 10)  Mod 1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Если a2 Mod 2 = 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  </a:t>
            </a: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То Вывод(a2,'- число чётное!'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  </a:t>
            </a: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Иначе  Вывод(a2,'- число не чётное!'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Конец_Если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Конец_Программы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А) 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'- число не чётное!’; </a:t>
            </a: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Б)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‘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число чётное!’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В) 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правильный ответ отсутствует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6" name="">
            <a:hlinkClick r:id="" action="ppaction://hlinkshowjump?jump=nextslide"/>
          </p:cNvPr>
          <p:cNvSpPr/>
          <p:nvPr/>
        </p:nvSpPr>
        <p:spPr>
          <a:xfrm>
            <a:off x="7620120" y="60199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90" h="21600">
                <a:moveTo>
                  <a:pt x="16138" y="3794"/>
                </a:moveTo>
                <a:lnTo>
                  <a:pt x="30151" y="10800"/>
                </a:lnTo>
                <a:lnTo>
                  <a:pt x="16138" y="17806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aramond"/>
              </a:rPr>
              <a:t>Вопрос 3.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5334120" y="2587680"/>
          <a:ext cx="3504960" cy="287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4120" y="2587680"/>
                    <a:ext cx="3504960" cy="28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85800" y="1066680"/>
            <a:ext cx="7010280" cy="56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Garamond"/>
              </a:rPr>
              <a:t>Какой график функции будет построен в результате выполнения программы?</a:t>
            </a:r>
            <a:r>
              <a:rPr b="0" lang="en-US" sz="1800" spc="-1" strike="noStrike">
                <a:solidFill>
                  <a:srgbClr val="333333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Программа Парабола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Описание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n: Целый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x,y,h: Вещественный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Конец_Описания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n:=60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x:=-8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h:=18/n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Сместиться_В(x, 5+4*х- Квадрат(x)  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Опустить_Перо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Повторять_Пока x&lt;=10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x:=x+h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y:= 5+4*х- Квадрат(x)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Сместиться_В(x,y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Завершить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Конец_Программы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523eb"/>
                </a:solidFill>
                <a:latin typeface="Garamond"/>
              </a:rPr>
              <a:t>А) 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у=5+4х+х</a:t>
            </a:r>
            <a:r>
              <a:rPr b="0" lang="en-US" sz="1800" spc="-1" strike="noStrike" baseline="30000">
                <a:solidFill>
                  <a:srgbClr val="c523eb"/>
                </a:solidFill>
                <a:latin typeface="Garamond"/>
              </a:rPr>
              <a:t>2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; </a:t>
            </a:r>
            <a:r>
              <a:rPr b="1" lang="en-US" sz="1800" spc="-1" strike="noStrike">
                <a:solidFill>
                  <a:srgbClr val="c523eb"/>
                </a:solidFill>
                <a:latin typeface="Garamond"/>
              </a:rPr>
              <a:t>Б)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 у= 5+4х-х</a:t>
            </a:r>
            <a:r>
              <a:rPr b="0" lang="en-US" sz="1800" spc="-1" strike="noStrike" baseline="30000">
                <a:solidFill>
                  <a:srgbClr val="c523eb"/>
                </a:solidFill>
                <a:latin typeface="Garamond"/>
              </a:rPr>
              <a:t>2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523eb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c523eb"/>
                </a:solidFill>
                <a:latin typeface="Garamond"/>
              </a:rPr>
              <a:t>В) 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у=х</a:t>
            </a:r>
            <a:r>
              <a:rPr b="0" lang="en-US" sz="1800" spc="-1" strike="noStrike" baseline="30000">
                <a:solidFill>
                  <a:srgbClr val="c523eb"/>
                </a:solidFill>
                <a:latin typeface="Garamond"/>
              </a:rPr>
              <a:t>2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-5х+4; </a:t>
            </a:r>
            <a:r>
              <a:rPr b="1" lang="en-US" sz="1800" spc="-1" strike="noStrike">
                <a:solidFill>
                  <a:srgbClr val="c523eb"/>
                </a:solidFill>
                <a:latin typeface="Garamond"/>
              </a:rPr>
              <a:t>Г) 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правильный ответ отсутствует.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7620120" y="60199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90" h="21600">
                <a:moveTo>
                  <a:pt x="16138" y="3794"/>
                </a:moveTo>
                <a:lnTo>
                  <a:pt x="30151" y="10800"/>
                </a:lnTo>
                <a:lnTo>
                  <a:pt x="16138" y="17806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aramond"/>
              </a:rPr>
              <a:t>Вопрос 4.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638680" y="914400"/>
          <a:ext cx="2308320" cy="541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8680" y="914400"/>
                    <a:ext cx="230832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685800" y="1066680"/>
            <a:ext cx="7010280" cy="51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333333"/>
                </a:solidFill>
                <a:latin typeface="Garamond"/>
              </a:rPr>
              <a:t>Каков будет ответ в результате выполнения программы при х=-7, у=2?</a:t>
            </a: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Программа Принадлежность_2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Описание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x,y: Вещественный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l,k: Логический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Конец_Описания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Ввод(x,'Введите координату х:'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Ввод(y,'Введите координату y:'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l:=(x&gt;=-8) и (x&lt;=5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k:=(y&gt;=-3) и (y&lt;=1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Если l и k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То Вывод('Принадлежит!'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Иначе  Вывод('Не принадлежит!'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Конец_Если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Конец_Программы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А) 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’Не принадлежит!’; </a:t>
            </a: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Б)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‘П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ринадлежит!’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В) 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правильный ответ отсутствует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" name="">
            <a:hlinkClick r:id="" action="ppaction://hlinkshowjump?jump=nextslide"/>
          </p:cNvPr>
          <p:cNvSpPr/>
          <p:nvPr/>
        </p:nvSpPr>
        <p:spPr>
          <a:xfrm>
            <a:off x="7620120" y="60199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90" h="21600">
                <a:moveTo>
                  <a:pt x="16138" y="3794"/>
                </a:moveTo>
                <a:lnTo>
                  <a:pt x="30151" y="10800"/>
                </a:lnTo>
                <a:lnTo>
                  <a:pt x="16138" y="17806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aramond"/>
              </a:rPr>
              <a:t>Вопрос 5.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191120" y="1981080"/>
          <a:ext cx="4495680" cy="307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1120" y="1981080"/>
                    <a:ext cx="4495680" cy="30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85800" y="1066680"/>
            <a:ext cx="7010280" cy="51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333333"/>
                </a:solidFill>
                <a:latin typeface="Garamond"/>
              </a:rPr>
              <a:t>Каков будет ответ в результате выполнения программы при у=1, х=-4?</a:t>
            </a: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Программа Принадлежность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Описание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x,y: Вещественный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l,k: Логический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Конец_Описания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Ввод(x,'Введите координату х:'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Ввод(y,'Введите координату y:'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l:=(x&gt;=-5) и (x&lt;=4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k:=(y&gt;=-1) и (y&lt;=1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Если l и k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То Вывод('Принадлежит!'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Иначе  Вывод('Не принадлежит!'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Конец_Если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Конец_Программы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А) 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’Не принадлежит!’; </a:t>
            </a: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Б)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‘П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ринадлежит!’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В) 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правильный ответ отсутствует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7620120" y="60199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90" h="21600">
                <a:moveTo>
                  <a:pt x="16138" y="3794"/>
                </a:moveTo>
                <a:lnTo>
                  <a:pt x="30151" y="10800"/>
                </a:lnTo>
                <a:lnTo>
                  <a:pt x="16138" y="17806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aramond"/>
              </a:rPr>
              <a:t>Вопрос 6.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4572000" y="2514600"/>
          <a:ext cx="3809880" cy="234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2514600"/>
                    <a:ext cx="380988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685800" y="1066680"/>
            <a:ext cx="7010280" cy="43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Garamond"/>
              </a:rPr>
              <a:t>Каков результат выполнения программы при n=5?</a:t>
            </a:r>
            <a:r>
              <a:rPr b="0" lang="en-US" sz="1800" spc="-1" strike="noStrike">
                <a:solidFill>
                  <a:srgbClr val="333333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Программа Вариант1_1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Описание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s,k,n: Целый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Конец_Описания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Ввод(n,'Введите n:'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k:=1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s:=0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Повторять_Пока k&lt;=n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s:=s+k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k:=k+3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Завершить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Вывод(s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Конец_Программы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523eb"/>
                </a:solidFill>
                <a:latin typeface="Garamond"/>
              </a:rPr>
              <a:t>А) 3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; </a:t>
            </a:r>
            <a:r>
              <a:rPr b="1" lang="en-US" sz="1800" spc="-1" strike="noStrike">
                <a:solidFill>
                  <a:srgbClr val="c523eb"/>
                </a:solidFill>
                <a:latin typeface="Garamond"/>
              </a:rPr>
              <a:t>Б)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 15; </a:t>
            </a:r>
            <a:r>
              <a:rPr b="1" lang="en-US" sz="1800" spc="-1" strike="noStrike">
                <a:solidFill>
                  <a:srgbClr val="c523eb"/>
                </a:solidFill>
                <a:latin typeface="Garamond"/>
              </a:rPr>
              <a:t> В) 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5;</a:t>
            </a:r>
            <a:r>
              <a:rPr b="1" lang="en-US" sz="1800" spc="-1" strike="noStrike">
                <a:solidFill>
                  <a:srgbClr val="c523eb"/>
                </a:solidFill>
                <a:latin typeface="Garamond"/>
              </a:rPr>
              <a:t> Г) 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правильный ответ отсутствует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">
            <a:hlinkClick r:id="" action="ppaction://hlinkshowjump?jump=nextslide"/>
          </p:cNvPr>
          <p:cNvSpPr/>
          <p:nvPr/>
        </p:nvSpPr>
        <p:spPr>
          <a:xfrm>
            <a:off x="7620120" y="60199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90" h="21600">
                <a:moveTo>
                  <a:pt x="16138" y="3794"/>
                </a:moveTo>
                <a:lnTo>
                  <a:pt x="30151" y="10800"/>
                </a:lnTo>
                <a:lnTo>
                  <a:pt x="16138" y="17806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aramond"/>
              </a:rPr>
              <a:t>Вопрос 7.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6400800" y="990720"/>
          <a:ext cx="2165400" cy="459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00800" y="990720"/>
                    <a:ext cx="2165400" cy="45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Выбери вариант: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1523880"/>
            <a:ext cx="4800600" cy="609840"/>
          </a:xfrm>
          <a:custGeom>
            <a:avLst/>
            <a:gdLst>
              <a:gd name="textAreaLeft" fmla="*/ 39240 w 4800600"/>
              <a:gd name="textAreaRight" fmla="*/ 4761360 w 48006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169945" h="21600">
                <a:moveTo>
                  <a:pt x="0" y="0"/>
                </a:moveTo>
                <a:lnTo>
                  <a:pt x="169945" y="0"/>
                </a:lnTo>
                <a:lnTo>
                  <a:pt x="169945" y="21600"/>
                </a:lnTo>
                <a:lnTo>
                  <a:pt x="0" y="21600"/>
                </a:lnTo>
                <a:close/>
              </a:path>
              <a:path fill="lightenLess" w="169945" h="21600">
                <a:moveTo>
                  <a:pt x="0" y="0"/>
                </a:moveTo>
                <a:lnTo>
                  <a:pt x="169945" y="0"/>
                </a:lnTo>
                <a:lnTo>
                  <a:pt x="168545" y="1400"/>
                </a:lnTo>
                <a:lnTo>
                  <a:pt x="1400" y="1400"/>
                </a:lnTo>
                <a:close/>
              </a:path>
              <a:path fill="darken" w="169945" h="21600">
                <a:moveTo>
                  <a:pt x="169945" y="0"/>
                </a:moveTo>
                <a:lnTo>
                  <a:pt x="169945" y="21600"/>
                </a:lnTo>
                <a:lnTo>
                  <a:pt x="168545" y="20200"/>
                </a:lnTo>
                <a:lnTo>
                  <a:pt x="168545" y="1400"/>
                </a:lnTo>
                <a:close/>
              </a:path>
              <a:path fill="darkenLess" w="169945" h="21600">
                <a:moveTo>
                  <a:pt x="169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8545" y="20200"/>
                </a:lnTo>
                <a:close/>
              </a:path>
              <a:path fill="lighten" w="169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69945" h="21600">
                <a:moveTo>
                  <a:pt x="77966" y="7493"/>
                </a:moveTo>
                <a:lnTo>
                  <a:pt x="81474" y="7493"/>
                </a:lnTo>
                <a:lnTo>
                  <a:pt x="81474" y="12828"/>
                </a:lnTo>
                <a:cubicBezTo>
                  <a:pt x="81474" y="13751"/>
                  <a:pt x="82275" y="14482"/>
                  <a:pt x="83310" y="14482"/>
                </a:cubicBezTo>
                <a:lnTo>
                  <a:pt x="84973" y="14482"/>
                </a:lnTo>
                <a:cubicBezTo>
                  <a:pt x="86008" y="14482"/>
                  <a:pt x="86809" y="13751"/>
                  <a:pt x="86809" y="12828"/>
                </a:cubicBezTo>
                <a:lnTo>
                  <a:pt x="86809" y="7493"/>
                </a:lnTo>
                <a:lnTo>
                  <a:pt x="84973" y="7493"/>
                </a:lnTo>
                <a:lnTo>
                  <a:pt x="88480" y="3985"/>
                </a:lnTo>
                <a:lnTo>
                  <a:pt x="92153" y="7493"/>
                </a:lnTo>
                <a:lnTo>
                  <a:pt x="90317" y="7493"/>
                </a:lnTo>
                <a:lnTo>
                  <a:pt x="90317" y="12828"/>
                </a:lnTo>
                <a:cubicBezTo>
                  <a:pt x="90317" y="15596"/>
                  <a:pt x="87741" y="18155"/>
                  <a:pt x="84973" y="18155"/>
                </a:cubicBezTo>
                <a:lnTo>
                  <a:pt x="83310" y="18155"/>
                </a:lnTo>
                <a:cubicBezTo>
                  <a:pt x="80543" y="18155"/>
                  <a:pt x="77966" y="15596"/>
                  <a:pt x="77966" y="12828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ариант                          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29000" y="2514600"/>
            <a:ext cx="4800600" cy="609480"/>
          </a:xfrm>
          <a:custGeom>
            <a:avLst/>
            <a:gdLst>
              <a:gd name="textAreaLeft" fmla="*/ 39240 w 4800600"/>
              <a:gd name="textAreaRight" fmla="*/ 4761360 w 48006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70046" h="21600">
                <a:moveTo>
                  <a:pt x="0" y="0"/>
                </a:moveTo>
                <a:lnTo>
                  <a:pt x="170046" y="0"/>
                </a:lnTo>
                <a:lnTo>
                  <a:pt x="170046" y="21600"/>
                </a:lnTo>
                <a:lnTo>
                  <a:pt x="0" y="21600"/>
                </a:lnTo>
                <a:close/>
              </a:path>
              <a:path fill="lightenLess" w="170046" h="21600">
                <a:moveTo>
                  <a:pt x="0" y="0"/>
                </a:moveTo>
                <a:lnTo>
                  <a:pt x="170046" y="0"/>
                </a:lnTo>
                <a:lnTo>
                  <a:pt x="168646" y="1400"/>
                </a:lnTo>
                <a:lnTo>
                  <a:pt x="1400" y="1400"/>
                </a:lnTo>
                <a:close/>
              </a:path>
              <a:path fill="darken" w="170046" h="21600">
                <a:moveTo>
                  <a:pt x="170046" y="0"/>
                </a:moveTo>
                <a:lnTo>
                  <a:pt x="170046" y="21600"/>
                </a:lnTo>
                <a:lnTo>
                  <a:pt x="168646" y="20200"/>
                </a:lnTo>
                <a:lnTo>
                  <a:pt x="168646" y="1400"/>
                </a:lnTo>
                <a:close/>
              </a:path>
              <a:path fill="darkenLess" w="170046" h="21600">
                <a:moveTo>
                  <a:pt x="1700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8646" y="20200"/>
                </a:lnTo>
                <a:close/>
              </a:path>
              <a:path fill="lighten" w="1700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70046" h="21600">
                <a:moveTo>
                  <a:pt x="78016" y="7493"/>
                </a:moveTo>
                <a:lnTo>
                  <a:pt x="81524" y="7493"/>
                </a:lnTo>
                <a:lnTo>
                  <a:pt x="81524" y="12828"/>
                </a:lnTo>
                <a:cubicBezTo>
                  <a:pt x="81524" y="13751"/>
                  <a:pt x="82325" y="14482"/>
                  <a:pt x="83360" y="14482"/>
                </a:cubicBezTo>
                <a:lnTo>
                  <a:pt x="85023" y="14482"/>
                </a:lnTo>
                <a:cubicBezTo>
                  <a:pt x="86059" y="14482"/>
                  <a:pt x="86859" y="13751"/>
                  <a:pt x="86859" y="12828"/>
                </a:cubicBezTo>
                <a:lnTo>
                  <a:pt x="86859" y="7493"/>
                </a:lnTo>
                <a:lnTo>
                  <a:pt x="85023" y="7493"/>
                </a:lnTo>
                <a:lnTo>
                  <a:pt x="88530" y="3985"/>
                </a:lnTo>
                <a:lnTo>
                  <a:pt x="92203" y="7493"/>
                </a:lnTo>
                <a:lnTo>
                  <a:pt x="90367" y="7493"/>
                </a:lnTo>
                <a:lnTo>
                  <a:pt x="90367" y="12828"/>
                </a:lnTo>
                <a:cubicBezTo>
                  <a:pt x="90367" y="15596"/>
                  <a:pt x="87791" y="18155"/>
                  <a:pt x="85023" y="18155"/>
                </a:cubicBezTo>
                <a:lnTo>
                  <a:pt x="83360" y="18155"/>
                </a:lnTo>
                <a:cubicBezTo>
                  <a:pt x="80593" y="18155"/>
                  <a:pt x="78016" y="15596"/>
                  <a:pt x="78016" y="12828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ариант                          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3733920"/>
            <a:ext cx="4800600" cy="609480"/>
          </a:xfrm>
          <a:custGeom>
            <a:avLst/>
            <a:gdLst>
              <a:gd name="textAreaLeft" fmla="*/ 39240 w 4800600"/>
              <a:gd name="textAreaRight" fmla="*/ 4761360 w 48006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70046" h="21600">
                <a:moveTo>
                  <a:pt x="0" y="0"/>
                </a:moveTo>
                <a:lnTo>
                  <a:pt x="170046" y="0"/>
                </a:lnTo>
                <a:lnTo>
                  <a:pt x="170046" y="21600"/>
                </a:lnTo>
                <a:lnTo>
                  <a:pt x="0" y="21600"/>
                </a:lnTo>
                <a:close/>
              </a:path>
              <a:path fill="lightenLess" w="170046" h="21600">
                <a:moveTo>
                  <a:pt x="0" y="0"/>
                </a:moveTo>
                <a:lnTo>
                  <a:pt x="170046" y="0"/>
                </a:lnTo>
                <a:lnTo>
                  <a:pt x="168646" y="1400"/>
                </a:lnTo>
                <a:lnTo>
                  <a:pt x="1400" y="1400"/>
                </a:lnTo>
                <a:close/>
              </a:path>
              <a:path fill="darken" w="170046" h="21600">
                <a:moveTo>
                  <a:pt x="170046" y="0"/>
                </a:moveTo>
                <a:lnTo>
                  <a:pt x="170046" y="21600"/>
                </a:lnTo>
                <a:lnTo>
                  <a:pt x="168646" y="20200"/>
                </a:lnTo>
                <a:lnTo>
                  <a:pt x="168646" y="1400"/>
                </a:lnTo>
                <a:close/>
              </a:path>
              <a:path fill="darkenLess" w="170046" h="21600">
                <a:moveTo>
                  <a:pt x="1700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8646" y="20200"/>
                </a:lnTo>
                <a:close/>
              </a:path>
              <a:path fill="lighten" w="1700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70046" h="21600">
                <a:moveTo>
                  <a:pt x="78016" y="7493"/>
                </a:moveTo>
                <a:lnTo>
                  <a:pt x="81524" y="7493"/>
                </a:lnTo>
                <a:lnTo>
                  <a:pt x="81524" y="12828"/>
                </a:lnTo>
                <a:cubicBezTo>
                  <a:pt x="81524" y="13751"/>
                  <a:pt x="82325" y="14482"/>
                  <a:pt x="83360" y="14482"/>
                </a:cubicBezTo>
                <a:lnTo>
                  <a:pt x="85023" y="14482"/>
                </a:lnTo>
                <a:cubicBezTo>
                  <a:pt x="86059" y="14482"/>
                  <a:pt x="86859" y="13751"/>
                  <a:pt x="86859" y="12828"/>
                </a:cubicBezTo>
                <a:lnTo>
                  <a:pt x="86859" y="7493"/>
                </a:lnTo>
                <a:lnTo>
                  <a:pt x="85023" y="7493"/>
                </a:lnTo>
                <a:lnTo>
                  <a:pt x="88530" y="3985"/>
                </a:lnTo>
                <a:lnTo>
                  <a:pt x="92203" y="7493"/>
                </a:lnTo>
                <a:lnTo>
                  <a:pt x="90367" y="7493"/>
                </a:lnTo>
                <a:lnTo>
                  <a:pt x="90367" y="12828"/>
                </a:lnTo>
                <a:cubicBezTo>
                  <a:pt x="90367" y="15596"/>
                  <a:pt x="87791" y="18155"/>
                  <a:pt x="85023" y="18155"/>
                </a:cubicBezTo>
                <a:lnTo>
                  <a:pt x="83360" y="18155"/>
                </a:lnTo>
                <a:cubicBezTo>
                  <a:pt x="80593" y="18155"/>
                  <a:pt x="78016" y="15596"/>
                  <a:pt x="78016" y="12828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ариант                          3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4800600"/>
            <a:ext cx="4800600" cy="609480"/>
          </a:xfrm>
          <a:custGeom>
            <a:avLst/>
            <a:gdLst>
              <a:gd name="textAreaLeft" fmla="*/ 39240 w 4800600"/>
              <a:gd name="textAreaRight" fmla="*/ 4761360 w 48006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70046" h="21600">
                <a:moveTo>
                  <a:pt x="0" y="0"/>
                </a:moveTo>
                <a:lnTo>
                  <a:pt x="170046" y="0"/>
                </a:lnTo>
                <a:lnTo>
                  <a:pt x="170046" y="21600"/>
                </a:lnTo>
                <a:lnTo>
                  <a:pt x="0" y="21600"/>
                </a:lnTo>
                <a:close/>
              </a:path>
              <a:path fill="lightenLess" w="170046" h="21600">
                <a:moveTo>
                  <a:pt x="0" y="0"/>
                </a:moveTo>
                <a:lnTo>
                  <a:pt x="170046" y="0"/>
                </a:lnTo>
                <a:lnTo>
                  <a:pt x="168646" y="1400"/>
                </a:lnTo>
                <a:lnTo>
                  <a:pt x="1400" y="1400"/>
                </a:lnTo>
                <a:close/>
              </a:path>
              <a:path fill="darken" w="170046" h="21600">
                <a:moveTo>
                  <a:pt x="170046" y="0"/>
                </a:moveTo>
                <a:lnTo>
                  <a:pt x="170046" y="21600"/>
                </a:lnTo>
                <a:lnTo>
                  <a:pt x="168646" y="20200"/>
                </a:lnTo>
                <a:lnTo>
                  <a:pt x="168646" y="1400"/>
                </a:lnTo>
                <a:close/>
              </a:path>
              <a:path fill="darkenLess" w="170046" h="21600">
                <a:moveTo>
                  <a:pt x="1700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8646" y="20200"/>
                </a:lnTo>
                <a:close/>
              </a:path>
              <a:path fill="lighten" w="1700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70046" h="21600">
                <a:moveTo>
                  <a:pt x="78016" y="7493"/>
                </a:moveTo>
                <a:lnTo>
                  <a:pt x="81524" y="7493"/>
                </a:lnTo>
                <a:lnTo>
                  <a:pt x="81524" y="12828"/>
                </a:lnTo>
                <a:cubicBezTo>
                  <a:pt x="81524" y="13751"/>
                  <a:pt x="82325" y="14482"/>
                  <a:pt x="83360" y="14482"/>
                </a:cubicBezTo>
                <a:lnTo>
                  <a:pt x="85023" y="14482"/>
                </a:lnTo>
                <a:cubicBezTo>
                  <a:pt x="86059" y="14482"/>
                  <a:pt x="86859" y="13751"/>
                  <a:pt x="86859" y="12828"/>
                </a:cubicBezTo>
                <a:lnTo>
                  <a:pt x="86859" y="7493"/>
                </a:lnTo>
                <a:lnTo>
                  <a:pt x="85023" y="7493"/>
                </a:lnTo>
                <a:lnTo>
                  <a:pt x="88530" y="3985"/>
                </a:lnTo>
                <a:lnTo>
                  <a:pt x="92203" y="7493"/>
                </a:lnTo>
                <a:lnTo>
                  <a:pt x="90367" y="7493"/>
                </a:lnTo>
                <a:lnTo>
                  <a:pt x="90367" y="12828"/>
                </a:lnTo>
                <a:cubicBezTo>
                  <a:pt x="90367" y="15596"/>
                  <a:pt x="87791" y="18155"/>
                  <a:pt x="85023" y="18155"/>
                </a:cubicBezTo>
                <a:lnTo>
                  <a:pt x="83360" y="18155"/>
                </a:lnTo>
                <a:cubicBezTo>
                  <a:pt x="80593" y="18155"/>
                  <a:pt x="78016" y="15596"/>
                  <a:pt x="78016" y="12828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ариант                          4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85800" y="1066680"/>
            <a:ext cx="7010280" cy="46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333333"/>
                </a:solidFill>
                <a:latin typeface="Garamond"/>
              </a:rPr>
              <a:t>Какую сумму вычисляет следующий алгоритм?</a:t>
            </a: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Программа Вариант_2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Описание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s,k,n: Целый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Конец_Описания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Ввод(n,'Введите n:'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k:=7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s:=0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Повторять_Пока k&lt;=n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s:=s+k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k:=k+5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Завершить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Вывод(s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Конец_Программы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А) 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s=7+10+13+…+n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; </a:t>
            </a: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Б)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 s=5+12+19+…+n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В) 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s=7+12+17+…+n;</a:t>
            </a: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 Г) 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правильный ответ отсутствует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1" name="">
            <a:hlinkClick r:id="" action="ppaction://hlinkshowjump?jump=nextslide"/>
          </p:cNvPr>
          <p:cNvSpPr/>
          <p:nvPr/>
        </p:nvSpPr>
        <p:spPr>
          <a:xfrm>
            <a:off x="7620120" y="60199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90" h="21600">
                <a:moveTo>
                  <a:pt x="16138" y="3794"/>
                </a:moveTo>
                <a:lnTo>
                  <a:pt x="30151" y="10800"/>
                </a:lnTo>
                <a:lnTo>
                  <a:pt x="16138" y="17806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aramond"/>
              </a:rPr>
              <a:t>Вопрос 8.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3581280" y="1752480"/>
          <a:ext cx="4950000" cy="283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1280" y="1752480"/>
                    <a:ext cx="495000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>
            <a:hlinkClick r:id="" action="ppaction://hlinkshowjump?jump=nextslide"/>
          </p:cNvPr>
          <p:cNvSpPr/>
          <p:nvPr/>
        </p:nvSpPr>
        <p:spPr>
          <a:xfrm>
            <a:off x="7620120" y="60199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90" h="21600">
                <a:moveTo>
                  <a:pt x="16138" y="3794"/>
                </a:moveTo>
                <a:lnTo>
                  <a:pt x="30151" y="10800"/>
                </a:lnTo>
                <a:lnTo>
                  <a:pt x="16138" y="17806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aramond"/>
              </a:rPr>
              <a:t>Вопрос 9.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066680"/>
            <a:ext cx="7010280" cy="46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333333"/>
                </a:solidFill>
                <a:latin typeface="Garamond"/>
              </a:rPr>
              <a:t>Какую сумму вычисляет следующий алгоритм?</a:t>
            </a:r>
            <a:r>
              <a:rPr b="0" lang="ru-RU" sz="1800" spc="-1" strike="noStrike">
                <a:solidFill>
                  <a:srgbClr val="333333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Программа Вариант_2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Описание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s,k,n: Целый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Конец_Описания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Ввод(n,'Введите n:'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k:=4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s:=0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Повторять_Пока k&lt;=n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s:=s+k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^2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k:=k+3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Завершить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Вывод(s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Конец_Программы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А) 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s=4+10+16+…+n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; </a:t>
            </a: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Б)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 s=4</a:t>
            </a:r>
            <a:r>
              <a:rPr b="0" lang="ru-RU" sz="1800" spc="-1" strike="noStrike" baseline="30000">
                <a:solidFill>
                  <a:srgbClr val="c523eb"/>
                </a:solidFill>
                <a:latin typeface="Garamond"/>
              </a:rPr>
              <a:t>3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+7</a:t>
            </a:r>
            <a:r>
              <a:rPr b="0" lang="ru-RU" sz="1800" spc="-1" strike="noStrike" baseline="30000">
                <a:solidFill>
                  <a:srgbClr val="c523eb"/>
                </a:solidFill>
                <a:latin typeface="Garamond"/>
              </a:rPr>
              <a:t>3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+10</a:t>
            </a:r>
            <a:r>
              <a:rPr b="0" lang="ru-RU" sz="1800" spc="-1" strike="noStrike" baseline="30000">
                <a:solidFill>
                  <a:srgbClr val="c523eb"/>
                </a:solidFill>
                <a:latin typeface="Garamond"/>
              </a:rPr>
              <a:t>3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+…+n</a:t>
            </a:r>
            <a:r>
              <a:rPr b="0" lang="ru-RU" sz="1800" spc="-1" strike="noStrike" baseline="30000">
                <a:solidFill>
                  <a:srgbClr val="c523eb"/>
                </a:solidFill>
                <a:latin typeface="Garamond"/>
              </a:rPr>
              <a:t>3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В) 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s=4</a:t>
            </a:r>
            <a:r>
              <a:rPr b="0" lang="ru-RU" sz="1800" spc="-1" strike="noStrike" baseline="30000">
                <a:solidFill>
                  <a:srgbClr val="c523eb"/>
                </a:solidFill>
                <a:latin typeface="Garamond"/>
              </a:rPr>
              <a:t>2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+7</a:t>
            </a:r>
            <a:r>
              <a:rPr b="0" lang="ru-RU" sz="1800" spc="-1" strike="noStrike" baseline="30000">
                <a:solidFill>
                  <a:srgbClr val="c523eb"/>
                </a:solidFill>
                <a:latin typeface="Garamond"/>
              </a:rPr>
              <a:t>2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+10</a:t>
            </a:r>
            <a:r>
              <a:rPr b="0" lang="ru-RU" sz="1800" spc="-1" strike="noStrike" baseline="30000">
                <a:solidFill>
                  <a:srgbClr val="c523eb"/>
                </a:solidFill>
                <a:latin typeface="Garamond"/>
              </a:rPr>
              <a:t>2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+…+n</a:t>
            </a:r>
            <a:r>
              <a:rPr b="0" lang="ru-RU" sz="1800" spc="-1" strike="noStrike" baseline="30000">
                <a:solidFill>
                  <a:srgbClr val="c523eb"/>
                </a:solidFill>
                <a:latin typeface="Garamond"/>
              </a:rPr>
              <a:t>3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;</a:t>
            </a:r>
            <a:r>
              <a:rPr b="1" lang="ru-RU" sz="1800" spc="-1" strike="noStrike">
                <a:solidFill>
                  <a:srgbClr val="c523eb"/>
                </a:solidFill>
                <a:latin typeface="Garamond"/>
              </a:rPr>
              <a:t> Г) </a:t>
            </a:r>
            <a:r>
              <a:rPr b="0" lang="ru-RU" sz="1800" spc="-1" strike="noStrike">
                <a:solidFill>
                  <a:srgbClr val="c523eb"/>
                </a:solidFill>
                <a:latin typeface="Garamond"/>
              </a:rPr>
              <a:t>правильный ответ отсутствует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6477120" y="1066680"/>
          <a:ext cx="2079360" cy="431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7120" y="1066680"/>
                    <a:ext cx="2079360" cy="43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85800" y="1066680"/>
            <a:ext cx="7010280" cy="56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Garamond"/>
              </a:rPr>
              <a:t>Каков результат выполнения программы?</a:t>
            </a:r>
            <a:r>
              <a:rPr b="0" lang="en-US" sz="1800" spc="-1" strike="noStrike">
                <a:solidFill>
                  <a:srgbClr val="333333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Программа Робот_2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Описание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k: Целый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Конец_Описания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k:=2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Повторять_Пока  Справа_Пусто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Закрасить(k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Вправо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k:=k+1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Если k&gt;10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То k:=1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Конец_Если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Завершить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Конец_Программы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523eb"/>
                </a:solidFill>
                <a:latin typeface="Garamond"/>
              </a:rPr>
              <a:t>А) 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робот шагает вверх и закрашивает клетки разными цветами; </a:t>
            </a:r>
            <a:r>
              <a:rPr b="1" lang="en-US" sz="1800" spc="-1" strike="noStrike">
                <a:solidFill>
                  <a:srgbClr val="c523eb"/>
                </a:solidFill>
                <a:latin typeface="Garamond"/>
              </a:rPr>
              <a:t>Б) 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робот шагает вниз; </a:t>
            </a:r>
            <a:r>
              <a:rPr b="1" lang="en-US" sz="1800" spc="-1" strike="noStrike">
                <a:solidFill>
                  <a:srgbClr val="c523eb"/>
                </a:solidFill>
                <a:latin typeface="Garamond"/>
              </a:rPr>
              <a:t>В) 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робот шагает вправо и закрашивает клетки одним цветом;</a:t>
            </a:r>
            <a:r>
              <a:rPr b="1" lang="en-US" sz="1800" spc="-1" strike="noStrike">
                <a:solidFill>
                  <a:srgbClr val="c523eb"/>
                </a:solidFill>
                <a:latin typeface="Garamond"/>
              </a:rPr>
              <a:t> Г) </a:t>
            </a:r>
            <a:r>
              <a:rPr b="0" lang="en-US" sz="1800" spc="-1" strike="noStrike">
                <a:solidFill>
                  <a:srgbClr val="c523eb"/>
                </a:solidFill>
                <a:latin typeface="Garamond"/>
              </a:rPr>
              <a:t>робот шагает вправо и закрашивает клетки разными цветами; Д) правильный ответ отсутствует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aramond"/>
              </a:rPr>
              <a:t>Вопрос 10.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2" name="">
            <a:hlinkClick r:id="rId2" action="ppaction://hlinksldjump"/>
          </p:cNvPr>
          <p:cNvSpPr/>
          <p:nvPr/>
        </p:nvSpPr>
        <p:spPr>
          <a:xfrm>
            <a:off x="7620120" y="541008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6" h="21600">
                <a:moveTo>
                  <a:pt x="11628" y="3837"/>
                </a:moveTo>
                <a:lnTo>
                  <a:pt x="14204" y="6448"/>
                </a:ln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lnTo>
                  <a:pt x="18591" y="10800"/>
                </a:lnTo>
                <a:lnTo>
                  <a:pt x="16937" y="10800"/>
                </a:lnTo>
                <a:lnTo>
                  <a:pt x="16937" y="17989"/>
                </a:lnTo>
                <a:lnTo>
                  <a:pt x="6318" y="17989"/>
                </a:lnTo>
                <a:lnTo>
                  <a:pt x="6318" y="10800"/>
                </a:lnTo>
                <a:lnTo>
                  <a:pt x="4665" y="10800"/>
                </a:lnTo>
                <a:close/>
              </a:path>
              <a:path fill="darkenLess" w="23256" h="21600">
                <a:moveTo>
                  <a:pt x="14204" y="6448"/>
                </a:move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close/>
              </a:path>
              <a:path fill="darkenLess" w="23256" h="21600">
                <a:moveTo>
                  <a:pt x="10705" y="14299"/>
                </a:moveTo>
                <a:lnTo>
                  <a:pt x="12550" y="14299"/>
                </a:lnTo>
                <a:lnTo>
                  <a:pt x="12550" y="17989"/>
                </a:lnTo>
                <a:lnTo>
                  <a:pt x="16937" y="17989"/>
                </a:lnTo>
                <a:lnTo>
                  <a:pt x="16937" y="10800"/>
                </a:lnTo>
                <a:lnTo>
                  <a:pt x="6318" y="10800"/>
                </a:lnTo>
                <a:lnTo>
                  <a:pt x="6318" y="17989"/>
                </a:lnTo>
                <a:lnTo>
                  <a:pt x="10705" y="17989"/>
                </a:lnTo>
                <a:close/>
              </a:path>
            </a:pathLst>
          </a:cu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4114800" y="1752480"/>
          <a:ext cx="3657600" cy="303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1752480"/>
                    <a:ext cx="3657600" cy="30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5" name=""/>
          <p:cNvGraphicFramePr/>
          <p:nvPr/>
        </p:nvGraphicFramePr>
        <p:xfrm>
          <a:off x="7086600" y="1219320"/>
          <a:ext cx="1538280" cy="467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86600" y="1219320"/>
                    <a:ext cx="1538280" cy="46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523eb"/>
                </a:solidFill>
                <a:latin typeface="Garamond"/>
              </a:rPr>
              <a:t>Команды повторения 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28600" y="1523880"/>
            <a:ext cx="7315200" cy="64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3e1b3"/>
                </a:solidFill>
                <a:latin typeface="Times New Roman"/>
              </a:rPr>
              <a:t>. </a:t>
            </a: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В алгоритмическом языке ИнтАл имеются три команды повторения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Palatino Linotype"/>
              </a:rPr>
              <a:t> </a:t>
            </a:r>
            <a:r>
              <a:rPr b="1" lang="ru-RU" sz="2000" spc="-1" strike="noStrike">
                <a:solidFill>
                  <a:srgbClr val="333333"/>
                </a:solidFill>
                <a:latin typeface="Palatino Linotype"/>
              </a:rPr>
              <a:t>Повторять_Пока</a:t>
            </a:r>
            <a:r>
              <a:rPr b="0" lang="ru-RU" sz="2000" spc="-1" strike="noStrike">
                <a:solidFill>
                  <a:srgbClr val="333333"/>
                </a:solidFill>
                <a:latin typeface="Palatino Linotype"/>
              </a:rPr>
              <a:t> &lt;условие&gt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Palatino Linotype"/>
              </a:rPr>
              <a:t>&lt;</a:t>
            </a:r>
            <a:r>
              <a:rPr b="0" lang="be-BY" sz="2000" spc="-1" strike="noStrike">
                <a:solidFill>
                  <a:srgbClr val="333333"/>
                </a:solidFill>
                <a:latin typeface="Palatino Linotype"/>
              </a:rPr>
              <a:t>блок операторов</a:t>
            </a:r>
            <a:r>
              <a:rPr b="0" lang="en-US" sz="2000" spc="-1" strike="noStrike">
                <a:solidFill>
                  <a:srgbClr val="333333"/>
                </a:solidFill>
                <a:latin typeface="Palatino Linotype"/>
              </a:rPr>
              <a:t>&gt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Palatino Linotype"/>
              </a:rPr>
              <a:t>Завершить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Palatino Linotype"/>
              </a:rPr>
              <a:t>Повторять_Для</a:t>
            </a:r>
            <a:r>
              <a:rPr b="0" lang="en-US" sz="2000" spc="-1" strike="noStrike">
                <a:solidFill>
                  <a:srgbClr val="333333"/>
                </a:solidFill>
                <a:latin typeface="Palatino Linotype"/>
              </a:rPr>
              <a:t> &lt;счётчик&gt;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Palatino Linotype"/>
              </a:rPr>
              <a:t>От</a:t>
            </a:r>
            <a:r>
              <a:rPr b="0" lang="en-US" sz="2000" spc="-1" strike="noStrike">
                <a:solidFill>
                  <a:srgbClr val="333333"/>
                </a:solidFill>
                <a:latin typeface="Palatino Linotype"/>
              </a:rPr>
              <a:t> &lt;начальное значение&gt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Palatino Linotype"/>
              </a:rPr>
              <a:t>До</a:t>
            </a:r>
            <a:r>
              <a:rPr b="0" lang="en-US" sz="2000" spc="-1" strike="noStrike">
                <a:solidFill>
                  <a:srgbClr val="333333"/>
                </a:solidFill>
                <a:latin typeface="Palatino Linotype"/>
              </a:rPr>
              <a:t> &lt;конечное значение&gt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Palatino Linotype"/>
              </a:rPr>
              <a:t>&lt;</a:t>
            </a:r>
            <a:r>
              <a:rPr b="0" lang="be-BY" sz="2000" spc="-1" strike="noStrike">
                <a:solidFill>
                  <a:srgbClr val="333333"/>
                </a:solidFill>
                <a:latin typeface="Palatino Linotype"/>
              </a:rPr>
              <a:t>блок операторов</a:t>
            </a:r>
            <a:r>
              <a:rPr b="0" lang="en-US" sz="2000" spc="-1" strike="noStrike">
                <a:solidFill>
                  <a:srgbClr val="333333"/>
                </a:solidFill>
                <a:latin typeface="Palatino Linotype"/>
              </a:rPr>
              <a:t>&gt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Palatino Linotype"/>
              </a:rPr>
              <a:t>Завершить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Palatino Linotype"/>
              </a:rPr>
              <a:t>Повторять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Palatino Linotype"/>
              </a:rPr>
              <a:t>&lt;</a:t>
            </a:r>
            <a:r>
              <a:rPr b="0" lang="be-BY" sz="2000" spc="-1" strike="noStrike">
                <a:solidFill>
                  <a:srgbClr val="333333"/>
                </a:solidFill>
                <a:latin typeface="Palatino Linotype"/>
              </a:rPr>
              <a:t>блок операторов</a:t>
            </a:r>
            <a:r>
              <a:rPr b="0" lang="en-US" sz="2000" spc="-1" strike="noStrike">
                <a:solidFill>
                  <a:srgbClr val="333333"/>
                </a:solidFill>
                <a:latin typeface="Palatino Linotype"/>
              </a:rPr>
              <a:t>&gt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Palatino Linotype"/>
              </a:rPr>
              <a:t>Завершить_Если</a:t>
            </a:r>
            <a:r>
              <a:rPr b="0" lang="ru-RU" sz="2000" spc="-1" strike="noStrike">
                <a:solidFill>
                  <a:srgbClr val="333333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Palatino Linotype"/>
              </a:rPr>
              <a:t>&lt;условие&gt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9" name="">
            <a:hlinkClick r:id="" action="ppaction://hlinkshowjump?jump=nextslide"/>
          </p:cNvPr>
          <p:cNvSpPr/>
          <p:nvPr/>
        </p:nvSpPr>
        <p:spPr>
          <a:xfrm>
            <a:off x="7086600" y="60199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90" h="21600">
                <a:moveTo>
                  <a:pt x="16138" y="3794"/>
                </a:moveTo>
                <a:lnTo>
                  <a:pt x="30151" y="10800"/>
                </a:lnTo>
                <a:lnTo>
                  <a:pt x="16138" y="17806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6000" y="3429000"/>
            <a:ext cx="4038480" cy="0"/>
          </a:xfrm>
          <a:prstGeom prst="line">
            <a:avLst/>
          </a:prstGeom>
          <a:ln w="9360">
            <a:solidFill>
              <a:srgbClr val="99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362320" y="5257800"/>
            <a:ext cx="4038480" cy="0"/>
          </a:xfrm>
          <a:prstGeom prst="line">
            <a:avLst/>
          </a:prstGeom>
          <a:ln w="9360">
            <a:solidFill>
              <a:srgbClr val="99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2" name=""/>
          <p:cNvGraphicFramePr/>
          <p:nvPr/>
        </p:nvGraphicFramePr>
        <p:xfrm>
          <a:off x="7696080" y="2895480"/>
          <a:ext cx="1047960" cy="314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96080" y="2895480"/>
                    <a:ext cx="1047960" cy="31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>
            <a:off x="1295280" y="16765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3e1b3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495680" y="60199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90" h="21600">
                <a:moveTo>
                  <a:pt x="16138" y="3794"/>
                </a:moveTo>
                <a:lnTo>
                  <a:pt x="30151" y="10800"/>
                </a:lnTo>
                <a:lnTo>
                  <a:pt x="16138" y="17806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533520"/>
            <a:ext cx="83059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Пусть необходимо вычислить сумму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=1+2+3+4+5+6+7+8+9+10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6633"/>
                </a:solidFill>
                <a:latin typeface="Times New Roman"/>
              </a:rPr>
              <a:t>Рассмотрим решение этой задачи с использованием всех трёх команд повторения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2286000"/>
            <a:ext cx="228600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Программа Пока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Описание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,k,n: Целый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Конец_Описания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k:=1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:=0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Повторять_Пока k&lt;=10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:=s+k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k:=k+1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Завершить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Вывод(s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Конец_Программы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00400" y="2362320"/>
            <a:ext cx="23623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4fcf"/>
                </a:solidFill>
                <a:latin typeface="Times New Roman"/>
              </a:rPr>
              <a:t>Программа Для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4fcf"/>
                </a:solidFill>
                <a:latin typeface="Times New Roman"/>
              </a:rPr>
              <a:t>Описание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4fcf"/>
                </a:solidFill>
                <a:latin typeface="Times New Roman"/>
              </a:rPr>
              <a:t>s,k: Целый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4fcf"/>
                </a:solidFill>
                <a:latin typeface="Times New Roman"/>
              </a:rPr>
              <a:t>Конец_Описания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4fcf"/>
                </a:solidFill>
                <a:latin typeface="Times New Roman"/>
              </a:rPr>
              <a:t>s:=0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4fcf"/>
                </a:solidFill>
                <a:latin typeface="Times New Roman"/>
              </a:rPr>
              <a:t>Повторять_Для k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4fc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4f4fcf"/>
                </a:solidFill>
                <a:latin typeface="Times New Roman"/>
              </a:rPr>
              <a:t>От 1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4fc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4f4fcf"/>
                </a:solidFill>
                <a:latin typeface="Times New Roman"/>
              </a:rPr>
              <a:t>До 10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4fcf"/>
                </a:solidFill>
                <a:latin typeface="Times New Roman"/>
              </a:rPr>
              <a:t>s:=s+k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4fcf"/>
                </a:solidFill>
                <a:latin typeface="Times New Roman"/>
              </a:rPr>
              <a:t>Завершить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4fcf"/>
                </a:solidFill>
                <a:latin typeface="Times New Roman"/>
              </a:rPr>
              <a:t>Вывод(s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4fcf"/>
                </a:solidFill>
                <a:latin typeface="Times New Roman"/>
              </a:rPr>
              <a:t>Конец_Программы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62720" y="2286000"/>
            <a:ext cx="274320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523eb"/>
                </a:solidFill>
                <a:latin typeface="Times New Roman"/>
              </a:rPr>
              <a:t>Программа Заверш_Если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523eb"/>
                </a:solidFill>
                <a:latin typeface="Times New Roman"/>
              </a:rPr>
              <a:t>Описание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523eb"/>
                </a:solidFill>
                <a:latin typeface="Times New Roman"/>
              </a:rPr>
              <a:t>s,k: Целый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523eb"/>
                </a:solidFill>
                <a:latin typeface="Times New Roman"/>
              </a:rPr>
              <a:t>Конец_Описания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523eb"/>
                </a:solidFill>
                <a:latin typeface="Times New Roman"/>
              </a:rPr>
              <a:t>k:=1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523eb"/>
                </a:solidFill>
                <a:latin typeface="Times New Roman"/>
              </a:rPr>
              <a:t>s:=0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523eb"/>
                </a:solidFill>
                <a:latin typeface="Times New Roman"/>
              </a:rPr>
              <a:t>Повторять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523eb"/>
                </a:solidFill>
                <a:latin typeface="Times New Roman"/>
              </a:rPr>
              <a:t>s:=s+k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523eb"/>
                </a:solidFill>
                <a:latin typeface="Times New Roman"/>
              </a:rPr>
              <a:t>k:=k+1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523eb"/>
                </a:solidFill>
                <a:latin typeface="Times New Roman"/>
              </a:rPr>
              <a:t>Завершить_Если k&gt;10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523eb"/>
                </a:solidFill>
                <a:latin typeface="Times New Roman"/>
              </a:rPr>
              <a:t>Вывод(s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523eb"/>
                </a:solidFill>
                <a:latin typeface="Times New Roman"/>
              </a:rPr>
              <a:t>Конец_Программы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523eb"/>
                </a:solidFill>
                <a:latin typeface="Times New Roman"/>
              </a:rPr>
              <a:t>Оператор Повторять_Пока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0880" y="838080"/>
            <a:ext cx="8077320" cy="51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3e1b3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Оператор Повторять_Пока используется тогда, когда количество повторений цикла зависит от некоторого условия, проверяемого перед выполнением цикла. Этот оператор имеет следующий вид: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Повторять_Пока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логическое_выражение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блок_операторов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Завершить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Если логическое_выражение истинно, то будет выполняться блок_операторов. После его выполнения  логическое_выражение вычисляется заново, и если оно опять истинно, блок_операторов опять повторяется и так далее. Таким образом, цикл не завершиться до тех пор, пока логическое_выражение не станет ложным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!  Используя оператор Повторять_Пока, также следует помнить о зацикливании, то есть следует проверять, сможет ли он когда-нибудь завершиться. Если логическое условие всегда будет истинным, то цикл никогда не закончится. Поэтому всегда следует проверить, будет ли когда-нибудь условие ложным.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2" name="">
            <a:hlinkClick r:id="" action="ppaction://hlinkshowjump?jump=nextslide"/>
          </p:cNvPr>
          <p:cNvSpPr/>
          <p:nvPr/>
        </p:nvSpPr>
        <p:spPr>
          <a:xfrm>
            <a:off x="7391520" y="5943600"/>
            <a:ext cx="1143000" cy="53352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859" y="1400"/>
                </a:lnTo>
                <a:lnTo>
                  <a:pt x="1400" y="140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859" y="20200"/>
                </a:lnTo>
                <a:lnTo>
                  <a:pt x="44859" y="140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59" y="2020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59" h="21600">
                <a:moveTo>
                  <a:pt x="16123" y="3794"/>
                </a:moveTo>
                <a:lnTo>
                  <a:pt x="30136" y="10800"/>
                </a:lnTo>
                <a:lnTo>
                  <a:pt x="16123" y="17806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523eb"/>
                </a:solidFill>
                <a:latin typeface="Garamond"/>
              </a:rPr>
              <a:t>Оператор Повторять_Для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38080" y="838080"/>
            <a:ext cx="77724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Оператор Повторять_Для используется тогда, когда количество повторений цикла известно заранее и может быть   задано    как      промежуток     между начальным и конечным значениями переменной, называемой счетчиком. Он имеет следующий вид: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Повторять_Для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Счетчик От нач_значение До кон_значение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блок_операторов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Завершить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Переменная Счетчик должна быть переменной целого типа и не может быть элементом массива. нач_значение и кон_значение   могут    быть   целыми арифметическими выражениями, причем    если    значение    выражения нач_значение больше, чем значение выражения кон_значение, то цикл не будет выполняться вообще. Если же начальное значение меньше или равно конечному значению, то цикл будет выполняться следующее число раз: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число повторений = кон_значение - нач_значение + 1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Фактически, после каждого выполнения тела цикла переменная Счетчик увеличивается на 1, и если Счетчик не превышает кон_значение, то цикл выполняется еще раз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5" name="">
            <a:hlinkClick r:id="" action="ppaction://hlinkshowjump?jump=nextslide"/>
          </p:cNvPr>
          <p:cNvSpPr/>
          <p:nvPr/>
        </p:nvSpPr>
        <p:spPr>
          <a:xfrm>
            <a:off x="4495680" y="60199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90" h="21600">
                <a:moveTo>
                  <a:pt x="16138" y="3794"/>
                </a:moveTo>
                <a:lnTo>
                  <a:pt x="30151" y="10800"/>
                </a:lnTo>
                <a:lnTo>
                  <a:pt x="16138" y="17806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762120" y="914400"/>
            <a:ext cx="7315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Пример: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Сумма := 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Повторять_Для i От 5 До 15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Сумма := Сумма + i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Завершить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Вначале переменная Сумма получает значение 0. Затем цикл повторяется 11 раз (15 - 5 + 1 = 11) и каждый раз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Сумма увеличивается на текущее значение переменной i. Таким образом получим, что Сумма = 0 + 5 + 6 + 7 + 8 +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9 + 10 + 11 + 12 + 13 + 14 + 15 = 110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7" name="">
            <a:hlinkClick r:id="" action="ppaction://hlinkshowjump?jump=nextslide"/>
          </p:cNvPr>
          <p:cNvSpPr/>
          <p:nvPr/>
        </p:nvSpPr>
        <p:spPr>
          <a:xfrm>
            <a:off x="4495680" y="60199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90" h="21600">
                <a:moveTo>
                  <a:pt x="16138" y="3794"/>
                </a:moveTo>
                <a:lnTo>
                  <a:pt x="30151" y="10800"/>
                </a:lnTo>
                <a:lnTo>
                  <a:pt x="16138" y="17806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7391520" y="5562720"/>
          <a:ext cx="841320" cy="73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5562720"/>
                    <a:ext cx="8413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10666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523eb"/>
                </a:solidFill>
                <a:latin typeface="Garamond"/>
              </a:rPr>
              <a:t>Оператор Повторять_Для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295280" y="1676520"/>
            <a:ext cx="7315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Язык ИнтАл допускает изменение переменной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Счетчик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внутри блока операторов. Иногда это можно использовать, если нужно закончить выполнение цикла преждевременно - следует просто установить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Счетчик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в максимальное значение. Изменение переменной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Счетчик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внутри блока операторов можно использовать для организации цикла с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шагом. Цикл с шагом - это обыкновенный цикл, у которого переменная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Счетчик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изменяется не на 1 за каждый шаг, а на некоторое целое значение. Например, если необходим цикл с шагом m, то следует увеличивать переменную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Счетчик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внутри блока операторов на m-1 (на единицу она увеличивается автоматически)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!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При изменении переменной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Счетчик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следует не забывать, что это может повлиять на выполнение цикла так, что он никогда не закончит работу (например, если в блоке операторов вы будете уменьшать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Счетчик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на 1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- суммарное увеличение равно 0, и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Счетчик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никогда не достигнет максимального значения, а значит цикл не завершится). Такая ситуация называется зацикливанием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nextslide"/>
          </p:cNvPr>
          <p:cNvSpPr/>
          <p:nvPr/>
        </p:nvSpPr>
        <p:spPr>
          <a:xfrm>
            <a:off x="7086600" y="6095880"/>
            <a:ext cx="1143000" cy="53352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859" y="1400"/>
                </a:lnTo>
                <a:lnTo>
                  <a:pt x="1400" y="140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859" y="20200"/>
                </a:lnTo>
                <a:lnTo>
                  <a:pt x="44859" y="140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59" y="2020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59" h="21600">
                <a:moveTo>
                  <a:pt x="16123" y="3794"/>
                </a:moveTo>
                <a:lnTo>
                  <a:pt x="30136" y="10800"/>
                </a:lnTo>
                <a:lnTo>
                  <a:pt x="16123" y="17806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9907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523eb"/>
                </a:solidFill>
                <a:latin typeface="Garamond"/>
              </a:rPr>
              <a:t>Оператор Повторять_Для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523eb"/>
                </a:solidFill>
                <a:latin typeface="Garamond"/>
              </a:rPr>
              <a:t>Запишите в тетрадь тему урока и пример: </a:t>
            </a:r>
            <a:br>
              <a:rPr sz="2800"/>
            </a:br>
            <a:r>
              <a:rPr b="1" i="1" lang="en-US" sz="3600" spc="-1" strike="noStrike">
                <a:solidFill>
                  <a:srgbClr val="4f4fcf"/>
                </a:solidFill>
                <a:latin typeface="Garamond"/>
              </a:rPr>
              <a:t>Команда повторения Для.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1676520"/>
            <a:ext cx="73152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523eb"/>
                </a:solidFill>
                <a:latin typeface="Times New Roman"/>
              </a:rPr>
              <a:t>Пример.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578963"/>
                </a:solidFill>
                <a:latin typeface="Times New Roman"/>
              </a:rPr>
              <a:t>Запишем алгоритм и блок-схему алгоритма вычисления суммы: </a:t>
            </a:r>
            <a:r>
              <a:rPr b="0" lang="en-US" sz="2400" spc="-1" strike="noStrike">
                <a:solidFill>
                  <a:srgbClr val="578963"/>
                </a:solidFill>
                <a:latin typeface="Times New Roman"/>
              </a:rPr>
              <a:t>S=6</a:t>
            </a:r>
            <a:r>
              <a:rPr b="0" lang="en-US" sz="2400" spc="-1" strike="noStrike" baseline="30000">
                <a:solidFill>
                  <a:srgbClr val="57896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578963"/>
                </a:solidFill>
                <a:latin typeface="Times New Roman"/>
              </a:rPr>
              <a:t>+7</a:t>
            </a:r>
            <a:r>
              <a:rPr b="0" lang="en-US" sz="2400" spc="-1" strike="noStrike" baseline="30000">
                <a:solidFill>
                  <a:srgbClr val="57896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578963"/>
                </a:solidFill>
                <a:latin typeface="Times New Roman"/>
              </a:rPr>
              <a:t>+8</a:t>
            </a:r>
            <a:r>
              <a:rPr b="0" lang="en-US" sz="2400" spc="-1" strike="noStrike" baseline="30000">
                <a:solidFill>
                  <a:srgbClr val="57896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578963"/>
                </a:solidFill>
                <a:latin typeface="Times New Roman"/>
              </a:rPr>
              <a:t>+…+99</a:t>
            </a:r>
            <a:r>
              <a:rPr b="0" lang="en-US" sz="2400" spc="-1" strike="noStrike" baseline="30000">
                <a:solidFill>
                  <a:srgbClr val="57896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Программа Summa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Описание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k: Целый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s:  Вещественный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Конец_Описания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s:=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Повторять_Для k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От 6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До 99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s:=s+k^2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Завершить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Вывод(s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Конец_Программы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6" name="">
            <a:hlinkClick r:id="" action="ppaction://hlinkshowjump?jump=nextslide"/>
          </p:cNvPr>
          <p:cNvSpPr/>
          <p:nvPr/>
        </p:nvSpPr>
        <p:spPr>
          <a:xfrm>
            <a:off x="3809880" y="60199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90" h="21600">
                <a:moveTo>
                  <a:pt x="16138" y="3794"/>
                </a:moveTo>
                <a:lnTo>
                  <a:pt x="30151" y="10800"/>
                </a:lnTo>
                <a:lnTo>
                  <a:pt x="16138" y="17806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162920" y="5181480"/>
            <a:ext cx="1600200" cy="260640"/>
          </a:xfrm>
          <a:prstGeom prst="parallelogram">
            <a:avLst>
              <a:gd name="adj" fmla="val 153488"/>
            </a:avLst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81480" y="2743200"/>
            <a:ext cx="2590920" cy="41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Начало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400800" y="3159000"/>
            <a:ext cx="0" cy="25884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562720" y="3352680"/>
            <a:ext cx="1904760" cy="363600"/>
          </a:xfrm>
          <a:prstGeom prst="rect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:=0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638680" y="3962520"/>
            <a:ext cx="1600200" cy="311040"/>
          </a:xfrm>
          <a:prstGeom prst="hexagon">
            <a:avLst>
              <a:gd name="adj" fmla="val 128617"/>
              <a:gd name="vf" fmla="val 115470"/>
            </a:avLst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k=6;99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400800" y="3733920"/>
            <a:ext cx="0" cy="2077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400800" y="4267080"/>
            <a:ext cx="0" cy="20808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4120" y="4495680"/>
            <a:ext cx="2209680" cy="533520"/>
          </a:xfrm>
          <a:prstGeom prst="rect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:=s+Квадрат(k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400800" y="5029200"/>
            <a:ext cx="0" cy="6732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4723920" y="5702400"/>
            <a:ext cx="167652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4724280" y="4114800"/>
            <a:ext cx="0" cy="15876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153280" y="4191120"/>
            <a:ext cx="0" cy="99036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934320" y="5908680"/>
            <a:ext cx="1676160" cy="41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Конец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848720" y="5486400"/>
            <a:ext cx="0" cy="42228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724280" y="4114800"/>
            <a:ext cx="91440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162920" y="4114800"/>
            <a:ext cx="99036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a79c6"/>
                </a:solidFill>
                <a:latin typeface="Garamond"/>
              </a:rPr>
              <a:t>Домашнее задание</a:t>
            </a:r>
            <a:br>
              <a:rPr sz="2800"/>
            </a:br>
            <a:r>
              <a:rPr b="0" i="1" lang="en-US" sz="2800" spc="-1" strike="noStrike">
                <a:solidFill>
                  <a:srgbClr val="6a79c6"/>
                </a:solidFill>
                <a:latin typeface="Garamond"/>
              </a:rPr>
              <a:t>Вариант 1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00"/>
              </a:spcBef>
              <a:buClr>
                <a:srgbClr val="333333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.  Составьте алгоритм построения графика функции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410080" y="1943280"/>
                <a:ext cx="296244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1447920" y="1981080"/>
            <a:ext cx="37335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Программа Парабола1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Описание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n: Целый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x,y,h: Вещественный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Конец_Описания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Сменить_Цвет(5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n:=60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x:=-8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h:=18/n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Сместиться_В(x,1/3*Квадрат(x)-4*x+5 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Опустить_Перо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Повторять_Пока x&lt;=14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x:=x+h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y:=1/3*Квадрат(x)-4*x+5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Сместиться_В(x,y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Завершить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Конец_Программы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7620120" y="60199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90" h="21600">
                <a:moveTo>
                  <a:pt x="16138" y="3794"/>
                </a:moveTo>
                <a:lnTo>
                  <a:pt x="30151" y="10800"/>
                </a:lnTo>
                <a:lnTo>
                  <a:pt x="16138" y="17806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105520" y="2971800"/>
            <a:ext cx="2971800" cy="2489040"/>
            <a:chOff x="5105520" y="2971800"/>
            <a:chExt cx="2971800" cy="2489040"/>
          </a:xfrm>
        </p:grpSpPr>
        <p:sp>
          <p:nvSpPr>
            <p:cNvPr id="116" name=""/>
            <p:cNvSpPr/>
            <p:nvPr/>
          </p:nvSpPr>
          <p:spPr>
            <a:xfrm>
              <a:off x="5105520" y="3048120"/>
              <a:ext cx="2514600" cy="24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19920" y="2971800"/>
              <a:ext cx="1676160" cy="2374920"/>
            </a:xfrm>
            <a:custGeom>
              <a:avLst/>
              <a:gdLst/>
              <a:ahLst/>
              <a:rect l="l" t="t" r="r" b="b"/>
              <a:pathLst>
                <a:path w="1056" h="1496">
                  <a:moveTo>
                    <a:pt x="0" y="48"/>
                  </a:moveTo>
                  <a:cubicBezTo>
                    <a:pt x="176" y="772"/>
                    <a:pt x="352" y="1496"/>
                    <a:pt x="528" y="1488"/>
                  </a:cubicBezTo>
                  <a:cubicBezTo>
                    <a:pt x="704" y="1480"/>
                    <a:pt x="968" y="248"/>
                    <a:pt x="1056" y="0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486400" y="4724280"/>
              <a:ext cx="25909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 flipV="1">
            <a:off x="6172200" y="3200040"/>
            <a:ext cx="0" cy="29718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Физкультминутка!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48120" y="57150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6" name="">
            <a:hlinkClick r:id="rId3" action="ppaction://hlinksldjump"/>
          </p:cNvPr>
          <p:cNvSpPr/>
          <p:nvPr/>
        </p:nvSpPr>
        <p:spPr>
          <a:xfrm>
            <a:off x="8077320" y="3049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4394" y="3837"/>
                </a:moveTo>
                <a:lnTo>
                  <a:pt x="16971" y="6448"/>
                </a:lnTo>
                <a:lnTo>
                  <a:pt x="16971" y="4707"/>
                </a:lnTo>
                <a:lnTo>
                  <a:pt x="18746" y="4707"/>
                </a:lnTo>
                <a:lnTo>
                  <a:pt x="18746" y="8224"/>
                </a:lnTo>
                <a:lnTo>
                  <a:pt x="21357" y="10800"/>
                </a:lnTo>
                <a:lnTo>
                  <a:pt x="19704" y="10800"/>
                </a:lnTo>
                <a:lnTo>
                  <a:pt x="19704" y="17989"/>
                </a:lnTo>
                <a:lnTo>
                  <a:pt x="9085" y="17989"/>
                </a:lnTo>
                <a:lnTo>
                  <a:pt x="9085" y="10800"/>
                </a:lnTo>
                <a:lnTo>
                  <a:pt x="7431" y="10800"/>
                </a:lnTo>
                <a:close/>
              </a:path>
              <a:path fill="darkenLess" w="28789" h="21600">
                <a:moveTo>
                  <a:pt x="16971" y="6448"/>
                </a:moveTo>
                <a:lnTo>
                  <a:pt x="16971" y="4707"/>
                </a:lnTo>
                <a:lnTo>
                  <a:pt x="18746" y="4707"/>
                </a:lnTo>
                <a:lnTo>
                  <a:pt x="18746" y="8224"/>
                </a:lnTo>
                <a:close/>
              </a:path>
              <a:path fill="darkenLess" w="28789" h="21600">
                <a:moveTo>
                  <a:pt x="13472" y="14299"/>
                </a:moveTo>
                <a:lnTo>
                  <a:pt x="15317" y="14299"/>
                </a:lnTo>
                <a:lnTo>
                  <a:pt x="15317" y="17989"/>
                </a:lnTo>
                <a:lnTo>
                  <a:pt x="19704" y="17989"/>
                </a:lnTo>
                <a:lnTo>
                  <a:pt x="19704" y="10800"/>
                </a:lnTo>
                <a:lnTo>
                  <a:pt x="9085" y="10800"/>
                </a:lnTo>
                <a:lnTo>
                  <a:pt x="9085" y="17989"/>
                </a:lnTo>
                <a:lnTo>
                  <a:pt x="13472" y="17989"/>
                </a:lnTo>
                <a:close/>
              </a:path>
            </a:pathLst>
          </a:cu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7" name="">
            <a:hlinkClick r:id="" action="ppaction://hlinkshowjump?jump=nextslide"/>
          </p:cNvPr>
          <p:cNvSpPr/>
          <p:nvPr/>
        </p:nvSpPr>
        <p:spPr>
          <a:xfrm>
            <a:off x="7543800" y="60199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90" h="21600">
                <a:moveTo>
                  <a:pt x="16138" y="3794"/>
                </a:moveTo>
                <a:lnTo>
                  <a:pt x="30151" y="10800"/>
                </a:lnTo>
                <a:lnTo>
                  <a:pt x="16138" y="17806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Составление алгоритмов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295280" y="1371600"/>
            <a:ext cx="6477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Составьте алгоритм вычисления суммы: 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2819520" y="2971800"/>
                <a:ext cx="4626000" cy="31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1" name="">
            <a:hlinkClick r:id="" action="ppaction://hlinkshowjump?jump=nextslide"/>
          </p:cNvPr>
          <p:cNvSpPr/>
          <p:nvPr/>
        </p:nvSpPr>
        <p:spPr>
          <a:xfrm>
            <a:off x="7010280" y="60199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90" h="21600">
                <a:moveTo>
                  <a:pt x="16138" y="3794"/>
                </a:moveTo>
                <a:lnTo>
                  <a:pt x="30151" y="10800"/>
                </a:lnTo>
                <a:lnTo>
                  <a:pt x="16138" y="17806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23eb"/>
                </a:solidFill>
                <a:latin typeface="Times New Roman"/>
              </a:rPr>
              <a:t>Запишите домашнее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c523eb"/>
                </a:solidFill>
                <a:latin typeface="Times New Roman"/>
              </a:rPr>
              <a:t>задание:</a:t>
            </a:r>
            <a:br>
              <a:rPr sz="4400"/>
            </a:br>
            <a:r>
              <a:rPr b="0" lang="en-US" sz="4400" spc="-1" strike="noStrike">
                <a:solidFill>
                  <a:srgbClr val="c523eb"/>
                </a:solidFill>
                <a:latin typeface="Times New Roman"/>
              </a:rPr>
              <a:t>параграф 50 п.1-3, №1,2;</a:t>
            </a:r>
            <a:br>
              <a:rPr sz="4400"/>
            </a:br>
            <a:r>
              <a:rPr b="0" lang="en-US" sz="4400" spc="-1" strike="noStrike">
                <a:solidFill>
                  <a:srgbClr val="c523eb"/>
                </a:solidFill>
                <a:latin typeface="Times New Roman"/>
              </a:rPr>
              <a:t>5 уровень: №3,4.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2666880" y="5334120"/>
            <a:ext cx="502920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Желаем успехов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457200" y="457200"/>
          <a:ext cx="1838160" cy="19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457200"/>
                    <a:ext cx="18381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Garamond"/>
              </a:rPr>
              <a:t>Домашнее задание</a:t>
            </a:r>
            <a:br>
              <a:rPr sz="2800"/>
            </a:br>
            <a:r>
              <a:rPr b="0" i="1" lang="en-US" sz="2800" spc="-1" strike="noStrike">
                <a:solidFill>
                  <a:srgbClr val="33cc33"/>
                </a:solidFill>
                <a:latin typeface="Garamond"/>
              </a:rPr>
              <a:t>Вариант 1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>
              <a:spcBef>
                <a:spcPts val="700"/>
              </a:spcBef>
              <a:buClr>
                <a:srgbClr val="333333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. Составьте алгоритм определяющий: принадлежит ли произвольно выбранная точка заштрихованному прямоугольнику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8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198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2362320"/>
            <a:ext cx="5638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Программа Принадлежность_1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Описание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x,y: Вещественный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l,k: Логический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Конец_Описания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Ввод(x,'Введите координату х:'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Ввод(y,'Введите координату y:'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l:=(x&gt;=-1) и (x&lt;=5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k:=(y&gt;=-3) и (y&lt;=3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Если l и k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То Вывод('Принадлежит!'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Иначе  Вывод('Не принадлежит!'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Конец_Если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Конец_Программы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7620120" y="541008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6" h="21600">
                <a:moveTo>
                  <a:pt x="11628" y="3837"/>
                </a:moveTo>
                <a:lnTo>
                  <a:pt x="14204" y="6448"/>
                </a:ln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lnTo>
                  <a:pt x="18591" y="10800"/>
                </a:lnTo>
                <a:lnTo>
                  <a:pt x="16937" y="10800"/>
                </a:lnTo>
                <a:lnTo>
                  <a:pt x="16937" y="17989"/>
                </a:lnTo>
                <a:lnTo>
                  <a:pt x="6318" y="17989"/>
                </a:lnTo>
                <a:lnTo>
                  <a:pt x="6318" y="10800"/>
                </a:lnTo>
                <a:lnTo>
                  <a:pt x="4665" y="10800"/>
                </a:lnTo>
                <a:close/>
              </a:path>
              <a:path fill="darkenLess" w="23256" h="21600">
                <a:moveTo>
                  <a:pt x="14204" y="6448"/>
                </a:move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close/>
              </a:path>
              <a:path fill="darkenLess" w="23256" h="21600">
                <a:moveTo>
                  <a:pt x="10705" y="14299"/>
                </a:moveTo>
                <a:lnTo>
                  <a:pt x="12550" y="14299"/>
                </a:lnTo>
                <a:lnTo>
                  <a:pt x="12550" y="17989"/>
                </a:lnTo>
                <a:lnTo>
                  <a:pt x="16937" y="17989"/>
                </a:lnTo>
                <a:lnTo>
                  <a:pt x="16937" y="10800"/>
                </a:lnTo>
                <a:lnTo>
                  <a:pt x="6318" y="10800"/>
                </a:lnTo>
                <a:lnTo>
                  <a:pt x="6318" y="17989"/>
                </a:lnTo>
                <a:lnTo>
                  <a:pt x="10705" y="17989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72200" y="3352680"/>
            <a:ext cx="1676520" cy="990720"/>
          </a:xfrm>
          <a:prstGeom prst="rect">
            <a:avLst/>
          </a:prstGeom>
          <a:solidFill>
            <a:srgbClr val="a9bda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400800" y="2590920"/>
            <a:ext cx="0" cy="22860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91320" y="3809880"/>
            <a:ext cx="259056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91320" y="35053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-1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29718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77120" y="44197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-3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924680" y="34290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553080" y="25146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у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229600" y="35053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х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a79c6"/>
                </a:solidFill>
                <a:latin typeface="Garamond"/>
              </a:rPr>
              <a:t>Домашнее задание</a:t>
            </a:r>
            <a:br>
              <a:rPr sz="2800"/>
            </a:br>
            <a:r>
              <a:rPr b="0" i="1" lang="en-US" sz="2800" spc="-1" strike="noStrike">
                <a:solidFill>
                  <a:srgbClr val="6a79c6"/>
                </a:solidFill>
                <a:latin typeface="Garamond"/>
              </a:rPr>
              <a:t>Вариант 2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00"/>
              </a:spcBef>
              <a:buClr>
                <a:srgbClr val="333333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.  Составьте алгоритм построения графика функции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864400" y="2176560"/>
                <a:ext cx="20541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1447920" y="1981080"/>
            <a:ext cx="37335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Программа Парабола2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Описание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n: Целый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x,y,h: Вещественный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Конец_Описания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Сменить_Цвет(5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n:=60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x:=-8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h:=18/n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Сместиться_В(x,-2*Квадрат(x)+9 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Опустить_Перо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Повторять_Пока x&lt;=14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x:=x+h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y:=-2*Квадрат(x)+9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Сместиться_В(x,y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Завершить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Конец_Программы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nextslide"/>
          </p:cNvPr>
          <p:cNvSpPr/>
          <p:nvPr/>
        </p:nvSpPr>
        <p:spPr>
          <a:xfrm>
            <a:off x="7620120" y="60199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90" h="21600">
                <a:moveTo>
                  <a:pt x="16138" y="3794"/>
                </a:moveTo>
                <a:lnTo>
                  <a:pt x="30151" y="10800"/>
                </a:lnTo>
                <a:lnTo>
                  <a:pt x="16138" y="17806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3048120"/>
            <a:ext cx="251460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4952880" y="3200040"/>
            <a:ext cx="2590920" cy="2971800"/>
            <a:chOff x="4952880" y="3200040"/>
            <a:chExt cx="2590920" cy="2971800"/>
          </a:xfrm>
        </p:grpSpPr>
        <p:sp>
          <p:nvSpPr>
            <p:cNvPr id="143" name=""/>
            <p:cNvSpPr/>
            <p:nvPr/>
          </p:nvSpPr>
          <p:spPr>
            <a:xfrm flipV="1">
              <a:off x="5334120" y="3656880"/>
              <a:ext cx="1676160" cy="2374920"/>
            </a:xfrm>
            <a:custGeom>
              <a:avLst/>
              <a:gdLst/>
              <a:ahLst/>
              <a:rect l="l" t="t" r="r" b="b"/>
              <a:pathLst>
                <a:path w="1056" h="1496">
                  <a:moveTo>
                    <a:pt x="0" y="48"/>
                  </a:moveTo>
                  <a:cubicBezTo>
                    <a:pt x="176" y="772"/>
                    <a:pt x="352" y="1496"/>
                    <a:pt x="528" y="1488"/>
                  </a:cubicBezTo>
                  <a:cubicBezTo>
                    <a:pt x="704" y="1480"/>
                    <a:pt x="968" y="248"/>
                    <a:pt x="1056" y="0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52880" y="4724280"/>
              <a:ext cx="25909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6172200" y="3200040"/>
              <a:ext cx="0" cy="29718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Garamond"/>
              </a:rPr>
              <a:t>Домашнее задание</a:t>
            </a:r>
            <a:br>
              <a:rPr sz="2800"/>
            </a:br>
            <a:r>
              <a:rPr b="0" i="1" lang="en-US" sz="2800" spc="-1" strike="noStrike">
                <a:solidFill>
                  <a:srgbClr val="33cc33"/>
                </a:solidFill>
                <a:latin typeface="Garamond"/>
              </a:rPr>
              <a:t>Вариант 2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>
              <a:spcBef>
                <a:spcPts val="700"/>
              </a:spcBef>
              <a:buClr>
                <a:srgbClr val="333333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. Составьте алгоритм определяющий: принадлежит ли произвольно выбранная точка заштрихованному прямоугольнику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8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198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2362320"/>
            <a:ext cx="5638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Программа Принадлежность_2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Описание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x,y: Вещественный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l,k: Логический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Конец_Описания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Ввод(x,'Введите координату х:'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Ввод(y,'Введите координату y:'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l:=(x&gt;=-2) и (x&lt;=3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k:=(y&gt;=-2) и (y&lt;=1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Если l и k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То Вывод('Принадлежит!'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Иначе  Вывод('Не принадлежит!'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Конец_Если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Конец_Программы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>
            <a:hlinkClick r:id="rId2" action="ppaction://hlinksldjump"/>
          </p:cNvPr>
          <p:cNvSpPr/>
          <p:nvPr/>
        </p:nvSpPr>
        <p:spPr>
          <a:xfrm>
            <a:off x="7620120" y="541008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6" h="21600">
                <a:moveTo>
                  <a:pt x="11628" y="3837"/>
                </a:moveTo>
                <a:lnTo>
                  <a:pt x="14204" y="6448"/>
                </a:ln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lnTo>
                  <a:pt x="18591" y="10800"/>
                </a:lnTo>
                <a:lnTo>
                  <a:pt x="16937" y="10800"/>
                </a:lnTo>
                <a:lnTo>
                  <a:pt x="16937" y="17989"/>
                </a:lnTo>
                <a:lnTo>
                  <a:pt x="6318" y="17989"/>
                </a:lnTo>
                <a:lnTo>
                  <a:pt x="6318" y="10800"/>
                </a:lnTo>
                <a:lnTo>
                  <a:pt x="4665" y="10800"/>
                </a:lnTo>
                <a:close/>
              </a:path>
              <a:path fill="darkenLess" w="23256" h="21600">
                <a:moveTo>
                  <a:pt x="14204" y="6448"/>
                </a:move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close/>
              </a:path>
              <a:path fill="darkenLess" w="23256" h="21600">
                <a:moveTo>
                  <a:pt x="10705" y="14299"/>
                </a:moveTo>
                <a:lnTo>
                  <a:pt x="12550" y="14299"/>
                </a:lnTo>
                <a:lnTo>
                  <a:pt x="12550" y="17989"/>
                </a:lnTo>
                <a:lnTo>
                  <a:pt x="16937" y="17989"/>
                </a:lnTo>
                <a:lnTo>
                  <a:pt x="16937" y="10800"/>
                </a:lnTo>
                <a:lnTo>
                  <a:pt x="6318" y="10800"/>
                </a:lnTo>
                <a:lnTo>
                  <a:pt x="6318" y="17989"/>
                </a:lnTo>
                <a:lnTo>
                  <a:pt x="10705" y="17989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3352680"/>
            <a:ext cx="1676520" cy="990720"/>
          </a:xfrm>
          <a:prstGeom prst="rect">
            <a:avLst/>
          </a:prstGeom>
          <a:solidFill>
            <a:srgbClr val="a9bda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858000" y="2590920"/>
            <a:ext cx="0" cy="22860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3733920"/>
            <a:ext cx="259056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91320" y="33526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-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77120" y="29718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77120" y="44197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-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924680" y="34290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53080" y="25146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у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35053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х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a79c6"/>
                </a:solidFill>
                <a:latin typeface="Garamond"/>
              </a:rPr>
              <a:t>Домашнее задание</a:t>
            </a:r>
            <a:br>
              <a:rPr sz="2800"/>
            </a:br>
            <a:r>
              <a:rPr b="0" i="1" lang="en-US" sz="2800" spc="-1" strike="noStrike">
                <a:solidFill>
                  <a:srgbClr val="6a79c6"/>
                </a:solidFill>
                <a:latin typeface="Garamond"/>
              </a:rPr>
              <a:t>Вариант 3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00"/>
              </a:spcBef>
              <a:buClr>
                <a:srgbClr val="333333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.  Составьте алгоритм построения графика функции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989680" y="2176560"/>
                <a:ext cx="18018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447920" y="1981080"/>
            <a:ext cx="37335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Программа Парабола3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Описание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n: Целый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x,y,h: Вещественный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Конец_Описания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Сменить_Цвет(5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n:=60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x:=-8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h:=18/n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Сместиться_В(x, Куб( x)+5 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Опустить_Перо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Повторять_Пока x&lt;=10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x:=x+h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y:=Куб(x)+5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Сместиться_В(x,y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Завершить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Конец_Программы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nextslide"/>
          </p:cNvPr>
          <p:cNvSpPr/>
          <p:nvPr/>
        </p:nvSpPr>
        <p:spPr>
          <a:xfrm>
            <a:off x="7620120" y="60199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90" h="21600">
                <a:moveTo>
                  <a:pt x="16138" y="3794"/>
                </a:moveTo>
                <a:lnTo>
                  <a:pt x="30151" y="10800"/>
                </a:lnTo>
                <a:lnTo>
                  <a:pt x="16138" y="17806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05520" y="3048120"/>
            <a:ext cx="251460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86400" y="4724280"/>
            <a:ext cx="259092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172200" y="3200040"/>
            <a:ext cx="0" cy="29718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15000" y="2743200"/>
            <a:ext cx="838080" cy="3352680"/>
          </a:xfrm>
          <a:custGeom>
            <a:avLst/>
            <a:gdLst/>
            <a:ahLst/>
            <a:rect l="l" t="t" r="r" b="b"/>
            <a:pathLst>
              <a:path w="528" h="2112">
                <a:moveTo>
                  <a:pt x="528" y="0"/>
                </a:moveTo>
                <a:cubicBezTo>
                  <a:pt x="508" y="412"/>
                  <a:pt x="488" y="824"/>
                  <a:pt x="432" y="1008"/>
                </a:cubicBezTo>
                <a:cubicBezTo>
                  <a:pt x="376" y="1192"/>
                  <a:pt x="264" y="920"/>
                  <a:pt x="192" y="1104"/>
                </a:cubicBezTo>
                <a:cubicBezTo>
                  <a:pt x="120" y="1288"/>
                  <a:pt x="32" y="1944"/>
                  <a:pt x="0" y="2112"/>
                </a:cubicBezTo>
              </a:path>
            </a:pathLst>
          </a:custGeom>
          <a:noFill/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Garamond"/>
              </a:rPr>
              <a:t>Домашнее задание</a:t>
            </a:r>
            <a:br>
              <a:rPr sz="2800"/>
            </a:br>
            <a:r>
              <a:rPr b="0" i="1" lang="en-US" sz="2800" spc="-1" strike="noStrike">
                <a:solidFill>
                  <a:srgbClr val="33cc33"/>
                </a:solidFill>
                <a:latin typeface="Garamond"/>
              </a:rPr>
              <a:t>Вариант 3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>
              <a:spcBef>
                <a:spcPts val="700"/>
              </a:spcBef>
              <a:buClr>
                <a:srgbClr val="333333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. Составьте алгоритм определяющий: принадлежит ли произвольно выбранная точка заштрихованному прямоугольнику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8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198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2362320"/>
            <a:ext cx="5638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Программа Принадлежность_3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Описание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x,y: Вещественный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l,k: Логический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Конец_Описания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Ввод(x,'Введите координату х:'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Ввод(y,'Введите координату y:'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l:=(x&gt;=-2) и (x&lt;=4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k:=(y&gt;=-2) и (y&lt;=3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Если l и k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То Вывод('Принадлежит!'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Иначе  Вывод('Не принадлежит!'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Конец_Если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Конец_Программы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" name="">
            <a:hlinkClick r:id="rId2" action="ppaction://hlinksldjump"/>
          </p:cNvPr>
          <p:cNvSpPr/>
          <p:nvPr/>
        </p:nvSpPr>
        <p:spPr>
          <a:xfrm>
            <a:off x="7620120" y="541008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6" h="21600">
                <a:moveTo>
                  <a:pt x="11628" y="3837"/>
                </a:moveTo>
                <a:lnTo>
                  <a:pt x="14204" y="6448"/>
                </a:ln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lnTo>
                  <a:pt x="18591" y="10800"/>
                </a:lnTo>
                <a:lnTo>
                  <a:pt x="16937" y="10800"/>
                </a:lnTo>
                <a:lnTo>
                  <a:pt x="16937" y="17989"/>
                </a:lnTo>
                <a:lnTo>
                  <a:pt x="6318" y="17989"/>
                </a:lnTo>
                <a:lnTo>
                  <a:pt x="6318" y="10800"/>
                </a:lnTo>
                <a:lnTo>
                  <a:pt x="4665" y="10800"/>
                </a:lnTo>
                <a:close/>
              </a:path>
              <a:path fill="darkenLess" w="23256" h="21600">
                <a:moveTo>
                  <a:pt x="14204" y="6448"/>
                </a:move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close/>
              </a:path>
              <a:path fill="darkenLess" w="23256" h="21600">
                <a:moveTo>
                  <a:pt x="10705" y="14299"/>
                </a:moveTo>
                <a:lnTo>
                  <a:pt x="12550" y="14299"/>
                </a:lnTo>
                <a:lnTo>
                  <a:pt x="12550" y="17989"/>
                </a:lnTo>
                <a:lnTo>
                  <a:pt x="16937" y="17989"/>
                </a:lnTo>
                <a:lnTo>
                  <a:pt x="16937" y="10800"/>
                </a:lnTo>
                <a:lnTo>
                  <a:pt x="6318" y="10800"/>
                </a:lnTo>
                <a:lnTo>
                  <a:pt x="6318" y="17989"/>
                </a:lnTo>
                <a:lnTo>
                  <a:pt x="10705" y="17989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67280" y="3200400"/>
            <a:ext cx="1676520" cy="990720"/>
          </a:xfrm>
          <a:prstGeom prst="rect">
            <a:avLst/>
          </a:prstGeom>
          <a:solidFill>
            <a:srgbClr val="a9bda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6400800" y="2590920"/>
            <a:ext cx="0" cy="22860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791320" y="3809880"/>
            <a:ext cx="259056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62720" y="35053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-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77120" y="28954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77120" y="4267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-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0120" y="34290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53080" y="25146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у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229600" y="35053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х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9T18:54:38Z</dcterms:created>
  <dc:creator>Alla</dc:creator>
  <dc:description/>
  <dc:language>en-US</dc:language>
  <cp:lastModifiedBy>Alla</cp:lastModifiedBy>
  <cp:lastPrinted>2004-04-15T23:59:51Z</cp:lastPrinted>
  <dcterms:modified xsi:type="dcterms:W3CDTF">2004-04-16T01:41:30Z</dcterms:modified>
  <cp:revision>11</cp:revision>
  <dc:subject/>
  <dc:title>Тема: «Составление алгоритмов»</dc:title>
</cp:coreProperties>
</file>